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67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68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</p:sldMasterIdLst>
  <p:sldIdLst>
    <p:sldId id="256" r:id="rId86"/>
    <p:sldId id="257" r:id="rId87"/>
    <p:sldId id="258" r:id="rId88"/>
    <p:sldId id="259" r:id="rId89"/>
    <p:sldId id="260" r:id="rId90"/>
    <p:sldId id="261" r:id="rId91"/>
    <p:sldId id="262" r:id="rId92"/>
    <p:sldId id="263" r:id="rId93"/>
    <p:sldId id="264" r:id="rId94"/>
    <p:sldId id="265" r:id="rId95"/>
    <p:sldId id="266" r:id="rId96"/>
    <p:sldId id="267" r:id="rId97"/>
    <p:sldId id="268" r:id="rId98"/>
    <p:sldId id="269" r:id="rId99"/>
    <p:sldId id="270" r:id="rId100"/>
    <p:sldId id="271" r:id="rId101"/>
    <p:sldId id="272" r:id="rId102"/>
    <p:sldId id="273" r:id="rId103"/>
    <p:sldId id="274" r:id="rId104"/>
    <p:sldId id="275" r:id="rId105"/>
    <p:sldId id="276" r:id="rId106"/>
    <p:sldId id="277" r:id="rId107"/>
    <p:sldId id="278" r:id="rId108"/>
    <p:sldId id="279" r:id="rId109"/>
    <p:sldId id="280" r:id="rId110"/>
    <p:sldId id="281" r:id="rId111"/>
    <p:sldId id="282" r:id="rId112"/>
    <p:sldId id="283" r:id="rId113"/>
    <p:sldId id="284" r:id="rId114"/>
    <p:sldId id="285" r:id="rId115"/>
    <p:sldId id="286" r:id="rId116"/>
    <p:sldId id="287" r:id="rId117"/>
    <p:sldId id="288" r:id="rId118"/>
    <p:sldId id="289" r:id="rId119"/>
    <p:sldId id="290" r:id="rId120"/>
    <p:sldId id="291" r:id="rId121"/>
    <p:sldId id="292" r:id="rId122"/>
    <p:sldId id="293" r:id="rId123"/>
    <p:sldId id="294" r:id="rId124"/>
    <p:sldId id="295" r:id="rId125"/>
    <p:sldId id="296" r:id="rId126"/>
    <p:sldId id="297" r:id="rId127"/>
    <p:sldId id="298" r:id="rId128"/>
    <p:sldId id="299" r:id="rId129"/>
    <p:sldId id="300" r:id="rId130"/>
    <p:sldId id="301" r:id="rId131"/>
    <p:sldId id="302" r:id="rId132"/>
    <p:sldId id="303" r:id="rId133"/>
    <p:sldId id="304" r:id="rId134"/>
    <p:sldId id="305" r:id="rId135"/>
    <p:sldId id="306" r:id="rId136"/>
    <p:sldId id="307" r:id="rId137"/>
    <p:sldId id="308" r:id="rId138"/>
    <p:sldId id="309" r:id="rId139"/>
    <p:sldId id="310" r:id="rId140"/>
    <p:sldId id="311" r:id="rId141"/>
    <p:sldId id="312" r:id="rId142"/>
    <p:sldId id="313" r:id="rId143"/>
    <p:sldId id="314" r:id="rId144"/>
    <p:sldId id="315" r:id="rId145"/>
    <p:sldId id="316" r:id="rId146"/>
    <p:sldId id="317" r:id="rId147"/>
    <p:sldId id="318" r:id="rId148"/>
    <p:sldId id="319" r:id="rId149"/>
    <p:sldId id="320" r:id="rId150"/>
    <p:sldId id="321" r:id="rId151"/>
    <p:sldId id="322" r:id="rId152"/>
    <p:sldId id="323" r:id="rId153"/>
    <p:sldId id="324" r:id="rId154"/>
    <p:sldId id="325" r:id="rId155"/>
    <p:sldId id="326" r:id="rId156"/>
    <p:sldId id="327" r:id="rId157"/>
    <p:sldId id="328" r:id="rId158"/>
    <p:sldId id="329" r:id="rId159"/>
    <p:sldId id="330" r:id="rId160"/>
    <p:sldId id="331" r:id="rId161"/>
    <p:sldId id="332" r:id="rId162"/>
    <p:sldId id="333" r:id="rId163"/>
    <p:sldId id="334" r:id="rId164"/>
    <p:sldId id="335" r:id="rId165"/>
    <p:sldId id="336" r:id="rId166"/>
    <p:sldId id="337" r:id="rId167"/>
    <p:sldId id="338" r:id="rId168"/>
    <p:sldId id="339" r:id="rId169"/>
    <p:sldId id="340" r:id="rId170"/>
    <p:sldId id="341" r:id="rId171"/>
    <p:sldId id="342" r:id="rId172"/>
    <p:sldId id="343" r:id="rId173"/>
    <p:sldId id="344" r:id="rId174"/>
    <p:sldId id="345" r:id="rId175"/>
    <p:sldId id="346" r:id="rId176"/>
    <p:sldId id="347" r:id="rId1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" Target="slides/slide1.xml"/><Relationship Id="rId87" Type="http://schemas.openxmlformats.org/officeDocument/2006/relationships/slide" Target="slides/slide2.xml"/><Relationship Id="rId88" Type="http://schemas.openxmlformats.org/officeDocument/2006/relationships/slide" Target="slides/slide3.xml"/><Relationship Id="rId89" Type="http://schemas.openxmlformats.org/officeDocument/2006/relationships/slide" Target="slides/slide4.xml"/><Relationship Id="rId90" Type="http://schemas.openxmlformats.org/officeDocument/2006/relationships/slide" Target="slides/slide5.xml"/><Relationship Id="rId91" Type="http://schemas.openxmlformats.org/officeDocument/2006/relationships/slide" Target="slides/slide6.xml"/><Relationship Id="rId92" Type="http://schemas.openxmlformats.org/officeDocument/2006/relationships/slide" Target="slides/slide7.xml"/><Relationship Id="rId93" Type="http://schemas.openxmlformats.org/officeDocument/2006/relationships/slide" Target="slides/slide8.xml"/><Relationship Id="rId94" Type="http://schemas.openxmlformats.org/officeDocument/2006/relationships/slide" Target="slides/slide9.xml"/><Relationship Id="rId95" Type="http://schemas.openxmlformats.org/officeDocument/2006/relationships/slide" Target="slides/slide10.xml"/><Relationship Id="rId96" Type="http://schemas.openxmlformats.org/officeDocument/2006/relationships/slide" Target="slides/slide11.xml"/><Relationship Id="rId97" Type="http://schemas.openxmlformats.org/officeDocument/2006/relationships/slide" Target="slides/slide12.xml"/><Relationship Id="rId98" Type="http://schemas.openxmlformats.org/officeDocument/2006/relationships/slide" Target="slides/slide13.xml"/><Relationship Id="rId99" Type="http://schemas.openxmlformats.org/officeDocument/2006/relationships/slide" Target="slides/slide14.xml"/><Relationship Id="rId100" Type="http://schemas.openxmlformats.org/officeDocument/2006/relationships/slide" Target="slides/slide15.xml"/><Relationship Id="rId101" Type="http://schemas.openxmlformats.org/officeDocument/2006/relationships/slide" Target="slides/slide16.xml"/><Relationship Id="rId102" Type="http://schemas.openxmlformats.org/officeDocument/2006/relationships/slide" Target="slides/slide17.xml"/><Relationship Id="rId103" Type="http://schemas.openxmlformats.org/officeDocument/2006/relationships/slide" Target="slides/slide18.xml"/><Relationship Id="rId104" Type="http://schemas.openxmlformats.org/officeDocument/2006/relationships/slide" Target="slides/slide19.xml"/><Relationship Id="rId105" Type="http://schemas.openxmlformats.org/officeDocument/2006/relationships/slide" Target="slides/slide20.xml"/><Relationship Id="rId106" Type="http://schemas.openxmlformats.org/officeDocument/2006/relationships/slide" Target="slides/slide21.xml"/><Relationship Id="rId107" Type="http://schemas.openxmlformats.org/officeDocument/2006/relationships/slide" Target="slides/slide22.xml"/><Relationship Id="rId108" Type="http://schemas.openxmlformats.org/officeDocument/2006/relationships/slide" Target="slides/slide23.xml"/><Relationship Id="rId109" Type="http://schemas.openxmlformats.org/officeDocument/2006/relationships/slide" Target="slides/slide24.xml"/><Relationship Id="rId110" Type="http://schemas.openxmlformats.org/officeDocument/2006/relationships/slide" Target="slides/slide25.xml"/><Relationship Id="rId111" Type="http://schemas.openxmlformats.org/officeDocument/2006/relationships/slide" Target="slides/slide26.xml"/><Relationship Id="rId112" Type="http://schemas.openxmlformats.org/officeDocument/2006/relationships/slide" Target="slides/slide27.xml"/><Relationship Id="rId113" Type="http://schemas.openxmlformats.org/officeDocument/2006/relationships/slide" Target="slides/slide28.xml"/><Relationship Id="rId114" Type="http://schemas.openxmlformats.org/officeDocument/2006/relationships/slide" Target="slides/slide29.xml"/><Relationship Id="rId115" Type="http://schemas.openxmlformats.org/officeDocument/2006/relationships/slide" Target="slides/slide30.xml"/><Relationship Id="rId116" Type="http://schemas.openxmlformats.org/officeDocument/2006/relationships/slide" Target="slides/slide31.xml"/><Relationship Id="rId117" Type="http://schemas.openxmlformats.org/officeDocument/2006/relationships/slide" Target="slides/slide32.xml"/><Relationship Id="rId118" Type="http://schemas.openxmlformats.org/officeDocument/2006/relationships/slide" Target="slides/slide33.xml"/><Relationship Id="rId119" Type="http://schemas.openxmlformats.org/officeDocument/2006/relationships/slide" Target="slides/slide34.xml"/><Relationship Id="rId120" Type="http://schemas.openxmlformats.org/officeDocument/2006/relationships/slide" Target="slides/slide35.xml"/><Relationship Id="rId121" Type="http://schemas.openxmlformats.org/officeDocument/2006/relationships/slide" Target="slides/slide36.xml"/><Relationship Id="rId122" Type="http://schemas.openxmlformats.org/officeDocument/2006/relationships/slide" Target="slides/slide37.xml"/><Relationship Id="rId123" Type="http://schemas.openxmlformats.org/officeDocument/2006/relationships/slide" Target="slides/slide38.xml"/><Relationship Id="rId124" Type="http://schemas.openxmlformats.org/officeDocument/2006/relationships/slide" Target="slides/slide39.xml"/><Relationship Id="rId125" Type="http://schemas.openxmlformats.org/officeDocument/2006/relationships/slide" Target="slides/slide40.xml"/><Relationship Id="rId126" Type="http://schemas.openxmlformats.org/officeDocument/2006/relationships/slide" Target="slides/slide41.xml"/><Relationship Id="rId127" Type="http://schemas.openxmlformats.org/officeDocument/2006/relationships/slide" Target="slides/slide42.xml"/><Relationship Id="rId128" Type="http://schemas.openxmlformats.org/officeDocument/2006/relationships/slide" Target="slides/slide43.xml"/><Relationship Id="rId129" Type="http://schemas.openxmlformats.org/officeDocument/2006/relationships/slide" Target="slides/slide44.xml"/><Relationship Id="rId130" Type="http://schemas.openxmlformats.org/officeDocument/2006/relationships/slide" Target="slides/slide45.xml"/><Relationship Id="rId131" Type="http://schemas.openxmlformats.org/officeDocument/2006/relationships/slide" Target="slides/slide46.xml"/><Relationship Id="rId132" Type="http://schemas.openxmlformats.org/officeDocument/2006/relationships/slide" Target="slides/slide47.xml"/><Relationship Id="rId133" Type="http://schemas.openxmlformats.org/officeDocument/2006/relationships/slide" Target="slides/slide48.xml"/><Relationship Id="rId134" Type="http://schemas.openxmlformats.org/officeDocument/2006/relationships/slide" Target="slides/slide49.xml"/><Relationship Id="rId135" Type="http://schemas.openxmlformats.org/officeDocument/2006/relationships/slide" Target="slides/slide50.xml"/><Relationship Id="rId136" Type="http://schemas.openxmlformats.org/officeDocument/2006/relationships/slide" Target="slides/slide51.xml"/><Relationship Id="rId137" Type="http://schemas.openxmlformats.org/officeDocument/2006/relationships/slide" Target="slides/slide52.xml"/><Relationship Id="rId138" Type="http://schemas.openxmlformats.org/officeDocument/2006/relationships/slide" Target="slides/slide53.xml"/><Relationship Id="rId139" Type="http://schemas.openxmlformats.org/officeDocument/2006/relationships/slide" Target="slides/slide54.xml"/><Relationship Id="rId140" Type="http://schemas.openxmlformats.org/officeDocument/2006/relationships/slide" Target="slides/slide55.xml"/><Relationship Id="rId141" Type="http://schemas.openxmlformats.org/officeDocument/2006/relationships/slide" Target="slides/slide56.xml"/><Relationship Id="rId142" Type="http://schemas.openxmlformats.org/officeDocument/2006/relationships/slide" Target="slides/slide57.xml"/><Relationship Id="rId143" Type="http://schemas.openxmlformats.org/officeDocument/2006/relationships/slide" Target="slides/slide58.xml"/><Relationship Id="rId144" Type="http://schemas.openxmlformats.org/officeDocument/2006/relationships/slide" Target="slides/slide59.xml"/><Relationship Id="rId145" Type="http://schemas.openxmlformats.org/officeDocument/2006/relationships/slide" Target="slides/slide60.xml"/><Relationship Id="rId146" Type="http://schemas.openxmlformats.org/officeDocument/2006/relationships/slide" Target="slides/slide61.xml"/><Relationship Id="rId147" Type="http://schemas.openxmlformats.org/officeDocument/2006/relationships/slide" Target="slides/slide62.xml"/><Relationship Id="rId148" Type="http://schemas.openxmlformats.org/officeDocument/2006/relationships/slide" Target="slides/slide63.xml"/><Relationship Id="rId149" Type="http://schemas.openxmlformats.org/officeDocument/2006/relationships/slide" Target="slides/slide64.xml"/><Relationship Id="rId150" Type="http://schemas.openxmlformats.org/officeDocument/2006/relationships/slide" Target="slides/slide65.xml"/><Relationship Id="rId151" Type="http://schemas.openxmlformats.org/officeDocument/2006/relationships/slide" Target="slides/slide66.xml"/><Relationship Id="rId152" Type="http://schemas.openxmlformats.org/officeDocument/2006/relationships/slide" Target="slides/slide67.xml"/><Relationship Id="rId153" Type="http://schemas.openxmlformats.org/officeDocument/2006/relationships/slide" Target="slides/slide68.xml"/><Relationship Id="rId154" Type="http://schemas.openxmlformats.org/officeDocument/2006/relationships/slide" Target="slides/slide69.xml"/><Relationship Id="rId155" Type="http://schemas.openxmlformats.org/officeDocument/2006/relationships/slide" Target="slides/slide70.xml"/><Relationship Id="rId156" Type="http://schemas.openxmlformats.org/officeDocument/2006/relationships/slide" Target="slides/slide71.xml"/><Relationship Id="rId157" Type="http://schemas.openxmlformats.org/officeDocument/2006/relationships/slide" Target="slides/slide72.xml"/><Relationship Id="rId158" Type="http://schemas.openxmlformats.org/officeDocument/2006/relationships/slide" Target="slides/slide73.xml"/><Relationship Id="rId159" Type="http://schemas.openxmlformats.org/officeDocument/2006/relationships/slide" Target="slides/slide74.xml"/><Relationship Id="rId160" Type="http://schemas.openxmlformats.org/officeDocument/2006/relationships/slide" Target="slides/slide75.xml"/><Relationship Id="rId161" Type="http://schemas.openxmlformats.org/officeDocument/2006/relationships/slide" Target="slides/slide76.xml"/><Relationship Id="rId162" Type="http://schemas.openxmlformats.org/officeDocument/2006/relationships/slide" Target="slides/slide77.xml"/><Relationship Id="rId163" Type="http://schemas.openxmlformats.org/officeDocument/2006/relationships/slide" Target="slides/slide78.xml"/><Relationship Id="rId164" Type="http://schemas.openxmlformats.org/officeDocument/2006/relationships/slide" Target="slides/slide79.xml"/><Relationship Id="rId165" Type="http://schemas.openxmlformats.org/officeDocument/2006/relationships/slide" Target="slides/slide80.xml"/><Relationship Id="rId166" Type="http://schemas.openxmlformats.org/officeDocument/2006/relationships/slide" Target="slides/slide81.xml"/><Relationship Id="rId167" Type="http://schemas.openxmlformats.org/officeDocument/2006/relationships/slide" Target="slides/slide82.xml"/><Relationship Id="rId168" Type="http://schemas.openxmlformats.org/officeDocument/2006/relationships/slide" Target="slides/slide83.xml"/><Relationship Id="rId169" Type="http://schemas.openxmlformats.org/officeDocument/2006/relationships/slide" Target="slides/slide84.xml"/><Relationship Id="rId170" Type="http://schemas.openxmlformats.org/officeDocument/2006/relationships/slide" Target="slides/slide85.xml"/><Relationship Id="rId171" Type="http://schemas.openxmlformats.org/officeDocument/2006/relationships/slide" Target="slides/slide86.xml"/><Relationship Id="rId172" Type="http://schemas.openxmlformats.org/officeDocument/2006/relationships/slide" Target="slides/slide87.xml"/><Relationship Id="rId173" Type="http://schemas.openxmlformats.org/officeDocument/2006/relationships/slide" Target="slides/slide88.xml"/><Relationship Id="rId174" Type="http://schemas.openxmlformats.org/officeDocument/2006/relationships/slide" Target="slides/slide89.xml"/><Relationship Id="rId175" Type="http://schemas.openxmlformats.org/officeDocument/2006/relationships/slide" Target="slides/slide90.xml"/><Relationship Id="rId176" Type="http://schemas.openxmlformats.org/officeDocument/2006/relationships/slide" Target="slides/slide91.xml"/><Relationship Id="rId177" Type="http://schemas.openxmlformats.org/officeDocument/2006/relationships/slide" Target="slides/slide92.xml"/><Relationship Id="rId1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9CF2-6822-4024-94AC-16B4C9E5C9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6A44D-4C6E-4725-85D9-1CEF2BB6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4F802-303A-41B8-8026-DA92BFFD8F55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FEF1C3-3976-4A41-AF15-1C932E273915}" type="slidenum">
              <a:t>&lt;#&gt;</a:t>
            </a:fld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99E751-6DF2-461F-AFAC-D4D46AA3023B}" type="slidenum">
              <a:t>&lt;#&gt;</a:t>
            </a:fld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BEB091-AF70-442B-B7E6-7CEC4E093529}" type="slidenum">
              <a:t>&lt;#&gt;</a:t>
            </a:fld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4E1B97-4C7C-48A4-9403-61AD70498E62}" type="slidenum">
              <a:t>&lt;#&gt;</a:t>
            </a:fld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C72E89-281C-492F-9D60-FBC66B20FE5A}" type="slidenum">
              <a:t>&lt;#&gt;</a:t>
            </a:fld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600C00-6C07-4EC0-898A-7529A12E78B6}" type="slidenum">
              <a:t>&lt;#&gt;</a:t>
            </a:fld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A55105-DCEC-4AC6-8B29-D4BA904A42CA}" type="slidenum">
              <a:t>&lt;#&gt;</a:t>
            </a:fld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C7A52D-5161-4C6A-B4B8-646193805883}" type="slidenum">
              <a:t>&lt;#&gt;</a:t>
            </a:fld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1649C8-F013-462E-A380-FFFAA0E1E04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69E57-2924-46FB-834A-D0DF79DE2A7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3E8F1-87FA-4123-AA8B-ECED493E836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159FB-1CB0-469F-B2FA-E3502E73DE9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DB9EF-40B6-4735-B95C-2FB86FB1DED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55249-722B-42B2-8350-66C2C3E2DFD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457C4-2786-4CDA-BA93-55D3AC7AE63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29703-678A-4413-A333-BD687F8453C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A17D0-B6BD-4F14-8BC6-51625DD5B44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08BC92-125E-414E-8A85-DE121259F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A49B4-04FF-479B-92FE-25185EF0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D6A82D-90A9-46FD-8E80-BAADF4C1100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5D1370-4824-46E8-ACEC-28FEEE06B5E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41F52F-FA31-4A47-B0B2-4B9FBF8CA5A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750167-0F98-4755-89E1-0042C23BF4A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A1D8AB-FFF6-491C-A08E-6B677D5E83C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3D657B-51DF-4EA5-9F85-1A5457E8513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395D48-55B2-4F9D-84C6-5C39703B357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6BDFB8-1644-445C-986A-33E3653E12B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BEE52C-C7D8-4716-A74D-945D8F43662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6BF813-BDCE-4ACD-9A10-40A489C98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2ECF5-20F8-42C7-B85A-0F1727C587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BE9117-1C0D-448D-BF61-9E4AA1B1A79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4E283C-DF9F-46A3-B6FD-7E7535044D5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353FFC-9790-4EB4-81FD-DC967DB3297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5809B8-16B1-42FF-8DB6-70F8D3FA5F2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059055-6A84-4EB1-8AA9-02D46F7747B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E8D2AA-6A8A-4626-9D8A-20686CA4EC3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67A443-E268-48D4-AA08-E7681974958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7EF4C4-81AC-4B12-9B65-361840CF9BE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63B09B-5343-4E70-BD4A-46501300239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CAB0D4-EE8E-490C-8F53-61528B5E5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2E99-7741-4E7B-90BA-EF4B03E566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6B388B-0214-42AF-BFC4-587372174CD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E334B1-2D8A-4D14-A2B7-6639FAFDC27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B86375-99CF-42C6-B70E-E0D317BB13E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AFB9F-1389-4411-A840-97CE398EB4C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9C4C1-657D-46BD-B0F8-5E6428B69CC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1DCDF-64E8-4419-AA9E-82EF5F20BAD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3E89D-DA51-4EA1-8636-28F4575D640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4B87F-326C-4078-8635-79F0DB3247E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1C977-C50E-488D-A748-988EB478449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59740-95B6-4D63-908A-7BD87F0890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8797-3E20-4CFA-8408-8ED54630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D018A-44DD-46CF-A2CA-DAF00487756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41315-4431-4DF6-A166-CB93F800EF4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F0565-B417-4311-AA68-21917D98114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33809-11EA-4F16-AE45-BDF32892962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F0696-3CB3-4CCF-8877-1261105957C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6F6708-22DC-4AF0-8E51-8DA500CFE44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C694BF-6705-49F4-9400-77A9D5F2181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3AF6C0-BD32-4510-A3A8-FD7FB71771E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7504C4-70C3-426E-B4DC-A0074EA2F1B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2FBE75-F386-485E-BC9F-8D93950D91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D714-C37E-42A1-B9DC-C09D9FC0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222C88-BF4C-4083-AFD1-6D25D0B7489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7E439D-0B81-4C93-A8A1-F27AD6E6362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211D0C-A744-46FE-B54C-CF7F73DDF4A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B8CB2C-DD6B-458D-AC97-CCBDCFD19C7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C0E95C-2015-4BC5-BCE8-6592DDC6B37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8C46A7-8749-4ABD-8261-58373A11DA4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824A0B-D832-4CD2-A33F-3CFC7CEDAF1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5CA5BC-7045-4249-B7F2-01C7641D307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9B7AC5-BDBA-4E2B-8AE3-4D301D36681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CF8E91-9FF7-4F3B-9A57-35FD89BD4D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018A-5D91-4186-ADD1-0C52C065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D6F08A-53D0-4A1B-B47C-F433A18CD30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DA4808-82C0-4246-BB08-D37FBF6D460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26C2EB-C45D-4C14-AFE3-171A455623A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5D024F-59FE-45CF-8710-AEBAFE2F96F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6C3F52-29EF-4400-BA17-C59B467C2B7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DD3C25-F142-4848-BB5C-BEB6D8FF7EE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80EB43-68CE-4623-9737-FD8CF548964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E4DDD8-FDEC-4E43-AA1B-8E0D996BD2C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023756-B56E-4105-9570-2028D7E132B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6ED19-3862-4526-961A-358199B7A4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5EF-E337-4E2E-BEE9-5A70B0EE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4F705-7F38-471F-90E5-FBB3B0A44A3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3E10D-44D2-4426-A115-9A90B18BC23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11AC9-8132-444D-B7EF-DFB03055F57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25D9A-3258-47B3-B972-F2E71A9A8EC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BB200-059D-4991-BE0B-1126A338002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80584-33FD-4545-BA72-0476447341A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E25F1-2D53-492E-ACDF-4FEA620D52B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D0651-4C55-4186-B396-3A2B5BDAE83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E9A60-58DE-4F6E-9325-DB3B88E0E3F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78D2C-0089-49FB-9879-510191307B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E884-CE53-4D7C-959F-DE269C8E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D9895-9DFB-4D9D-8D4E-0EEF35F8947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3BDAAC-4664-47DE-9531-F45D1390615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8735FE-A566-42DE-8A77-ECF019ABD31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F9BF9B-9E29-4BA3-A842-2D4ABEEEF66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3B4292-953D-44EB-B9A1-EAEDE2D19E6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63BAE1-AFB0-45F5-82EB-33EB2821CF0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41D38D-D126-40E0-898D-DC87CBEB0FB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120B17-4C8A-4375-9A86-30A09960C67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9D5E7E-6462-4A84-96F4-8A37937586D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A7DF98-54FC-4E56-B84C-83DAF1B771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EB0F-4A81-4026-B6AD-4C0848A5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A95BE5-5631-404B-A6D1-86448CC7826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8162D8-7382-4540-90AD-03A9E78D6CA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AF8D18-6306-4F31-BA80-5746CF5B166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DD5A57-0CA7-42B4-A76F-71E1C8E714E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290998-F82B-4790-BFAB-390AAFE2D86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5B089A-97F5-4D83-8669-E7E3400C77C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EFBB95-B411-4418-9339-C2BF06FB43C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156BC7-618B-4A08-8F1E-B69EE98DEE5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A2B42D-3EE9-4EEA-9109-E4424B93E22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07C000-8119-48A2-99BD-E8528F48CD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DCBA-1AE6-4484-A6FE-BA694674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CD2F-A606-417A-BD31-AD74A8D6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942E91-C91B-4B3F-A633-DD833F08ED5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B8ACF8-6A8A-44C3-92C6-3EB647DC7DF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C80917-BA6E-4CD2-AD15-1B05EB001B4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39A322-7882-4E42-92A7-05173F86902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BF54FC-4EBB-4B88-A88E-26227ECB058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6BFEE-EA63-402C-A8CB-D17E2448233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578E0-AB4E-43FE-B609-4AA783157A4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2A55E-EB8A-4AD2-9D69-53034C95B73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D88F9-B081-4E3A-AB54-0986C5D6703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AE80B-5AF6-48AC-B063-C8E02788EF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4A2F-068A-4570-A43F-71803CCF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92BCD-121D-4E81-9BB6-4582FFE61AA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F702F-E671-4C85-B085-3DD4946982E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DC175-A011-4E83-8481-24D207B2E6D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062E1-A79E-40DA-8F0F-7F5571A08CB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011BE-EFE4-4AC3-905F-BAD0A1A295E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7B3FA-2D62-42DE-909A-B541AAC2167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B8477-F7C4-41F3-AB49-98004455510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64C1-C1E9-4B7D-ADCF-32010BF3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AB13AE-5BC0-4B71-BE43-757038A50B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EA0-69EE-410E-98C2-F28993A0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8D4884-50EA-4DD7-9928-1CA184056F7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3FDDC4-286A-48D2-8370-E6DA2D058F8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84768E-839D-4C69-AC53-D90D806B86E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2A2B1B-B6A8-4C33-8C23-3B5A7E8EF9F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5083C2-96DE-4FDF-848F-157E7C9200C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A9F499-4D74-42F7-8655-4D5DC4F7A65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1940C6-8C0F-4A1D-84FB-B05F27B145FC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E8237C-AAE7-4D7D-84A7-959D08D2934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70A7E6-37FC-42DA-95EB-36149611393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70C0FA-CB37-4C95-A8F3-4FBC12792B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E91-0F3A-4A74-8223-F2A8DCFAD0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1FA38D-5341-401C-B866-D6AC6CAA4A0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1C0DBC-582B-49CA-9259-3DD3F7C8D79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37C058-9466-433B-96AA-2A5686B6107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B1114D-862B-4BBF-A899-C32FDF33D910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580FA7-F003-426D-A6E8-E7A05A8ACE5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E8101F-36F3-4B1D-A8E9-5D95E8B25F1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63925E-61DC-4459-9B49-85469B90C95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083D1B-1E6F-4418-A0B5-7FEF6440593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96754C-7307-474E-B8F9-2D4CC1409E7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EB438B-75DE-4F3E-AB76-31890281336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85F05-D21B-4B81-9E57-A65C5B10FA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F9EF35-EC6F-4EE7-99AB-734DE6A598D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B45944-D132-419A-BA51-EF733D573B7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DE63EE-4A00-4850-93D3-858F7EBB855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EE761-AD8C-4C7F-9E67-3A5CDC64250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F6FD0-CD26-472C-AF86-7E34574E0FA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7AA45-AEAC-42F0-A29C-3F31A3EA4D8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56134-82D7-4991-96BF-D6664F0D865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3FD07-922E-4975-99DF-8B45AB9EADF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2EBD7-DF1C-46B2-97FD-ED323F19CBA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F5C40-23A3-4C0C-8731-2E8AC75BBB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28AEF-DBDE-4D97-A50A-40EF0DAE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EEE0F-2262-4DD2-9536-742DD9F2950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CD0D7-A567-4D1F-85A6-3774DAC5425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4E9C5-4942-4E83-9B62-466BAE67D3F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45842-C8CA-4CF0-8D5F-C6295598D66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568C5-84C1-424D-BF51-D7DEEACD7D0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EBEB02-4E2F-46CD-A794-11F3D36AF49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E84B96-61FC-40CE-B345-99503F00BA0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6DA4EF-B9E0-4620-9B65-F726CD8F289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511D46-6900-489F-BB18-90893F6E861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D86B22-B3E9-4341-B6EA-0DC1368264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7C7BF-7D57-4E02-B5D6-93740648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790A1C-6FF3-4867-98C4-6EAF65DC860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8990D5-C5E2-477F-8B2D-E04326FEFB4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44756E-3B72-4CCF-85F7-428540F90A8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281BC3-10EA-4A55-9DF4-5CFD4B859EB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5A9329-3200-46E8-A25C-DEAF7B33636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86F743-796F-4232-8BF1-ACC52E2789D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DD5C77-448B-498C-A4F9-9918668C7A0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79CC06-F315-4B20-998A-313C076126A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2B41EC-76C2-4F83-987E-E2379F7FF67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E8445A-B1BA-47D9-A869-904E5E4DDD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8C423-6FC3-4C24-8577-CADEA5ED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AB7157-07C2-4571-8957-0AEFC506554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5C399B-3FC5-4BD3-8112-8A4A6D961C9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1144DC-8F3A-4E50-9FBB-E408B5DA818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E2A738-85BE-49BE-8EBC-C0820953375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16F226-EBD5-47AE-99D9-04CF4E7285D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74AE71-F824-4192-B892-3CCE7CEE2CA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DC8F3C-FC2F-4683-B31F-0E33F85BA73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131E6C-37D1-459B-9A09-C7DBE29F75FC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51C0BF-5026-4205-A01C-BFCFD0FA9F2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E22B0-C52F-4E47-B315-171DE5FDEA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57F59-540D-4118-9D51-166A7379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B6F27-13DC-477A-B5B8-D4F437F2D90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12600-4D73-4E1B-8B93-ED9D08E1C11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5A30E-F1C0-44A9-A51B-5ECC61D66EC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FD81E-5BBD-4832-999F-224A42B398C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97E44-1BAB-4052-9726-C2B0289D5C9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60D2B-2794-4998-B69C-3AFD5F4E4BD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9D284-71CC-4073-8710-4686797FF59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55FA9-E651-4458-B40E-8B63AAB39C8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31634-8B16-49CE-9EC9-4EDC87C6406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4F37C-4C95-46F9-AFDE-7ED044F325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036E5-3630-41AB-863A-F5754796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E4F3D-21CC-4034-858A-2CF6F915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991A9-3A29-41AE-BB88-46A5A054AE9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811F96-A3E8-4050-AC88-DD4B46B04E3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7FA094-C711-47E4-A635-1E67E2484F0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1C70CA-B6B6-49EF-B41B-454919AD1A0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EF8C52-F412-4968-98C6-C1876B2A898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FEDA50-C4B3-411E-8C20-E114368C69C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E07F60-F709-49F2-BF31-448D054F08A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383CB3-3FE4-4FFD-9F09-B5357C58C3F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570610-C269-4B5F-83B7-15E7B6FAD66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7A8E38-8468-432B-8E85-DADF574563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F28EF-A318-4B87-BD11-2D289513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429616-7214-41C5-B4E8-CCABDC26A7A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1C9397-32F6-4F18-A81F-23ABCA3190BA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9C1689-7B0C-41FC-AEF6-1BA984098CE8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10650E-3855-4C37-A032-3F99347455B5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DAC56B-1D98-40CB-A0D8-EA4210C8958A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A1A307-4534-457F-B033-3CE38D87011F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2C2F98-AA6C-47FE-BE74-0A997579DCAE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AAB21A-A6FB-47EB-A77E-4EA562A9B40A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6A8BFD-BF45-4C04-A516-5E1BF64C3A08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1700C4-55F2-445F-987C-795CF71073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1AAE5-1DB8-492C-B2F7-3609A948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45AB1E-EA43-4922-96F6-749193A1660E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7F3F6B-606C-4BA1-AC1C-F4A51654EDB2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742B81-4330-48A7-BB52-455A96BA0A53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238429-07B1-4B00-AB77-077EBDC73C6B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7B5055-6FB7-43CB-B41B-C2CAABFE791C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ABBBE-C04A-4643-B703-C4F3C16E03A6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35916-1356-4BC3-8D77-7D9A6402A670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F74B6-374D-4C68-8603-68BEF3BB19FC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9E4ED-1BC4-4179-A90E-AF98B2298BED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2219D-B1BD-43C8-A2E8-CB6A07AABC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41E86-A75B-467C-B67B-7277BA56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C2C4F-7FF7-47F2-B94C-EF7DCB755A15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21313-EA45-4458-B192-2723E1F6167D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82269-DE25-4FBA-BC95-F6C20587481A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CEB3D-C07A-4A10-A155-A223CC8BFF6E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6FA36-459F-4AD7-877E-14111BF7A37E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EB27A-1759-4661-BF1B-32509C2D4CB1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226B3-6E68-405D-9DDF-19B8160313DC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1654C0-9A63-4738-870F-F6682EB3D7AF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2A0C68-E70F-44ED-9638-47C219293EF0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6C2E5C-76A4-4091-A52E-D80A59E458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070B9-548C-44AF-A3F3-8B8F4E1E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0814A7-D2B1-4D0C-BAA4-FF88C8534BD6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43200A-F006-40D6-A2B5-719987603B7A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28D8D4-EAA7-4C0D-B43D-540DF8417DA9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AE5AA8-C1DF-49CE-ACB4-BD52DD5064C9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2208E6-B025-475A-93BE-131B679AF66A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32CC60-54A6-4036-AC1C-BB3D5A3CCA79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A43E22-FCDF-404E-B5D6-373BA74F09B6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D31931-A430-4EE9-8AB4-A8B386FAE62D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E1370E-23DC-47A8-ADF4-C14C27223329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6E2B8-78F4-4A4F-B605-4688529B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8FCE9-AD39-430E-8022-606E8AD590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A8A81E-914C-448B-8A27-0E61F381C0FC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3F2824-F497-461C-B773-F3EA494EC2EA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A8F400-587E-4FC0-B4CE-CE36A2910BC1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798579-E402-4DBF-A688-9B95B891E874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28ED9A-8BF8-4A12-9280-98FEA9BEC883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02DD9F-8C88-446C-B423-B1E3F2AD4D8F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69E565-70BA-45D7-832B-C960F27CFBC8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04CEFC-A5DE-47DF-9FD1-EEA0C3460A52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A38272-B36B-42A9-A11E-E40245F0843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8001A7-C6D3-4237-909F-ACEB33DF4A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748537-FC3F-439D-BE94-9B8C11A2D506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0B4413-2624-407B-85EC-56A4E523B53E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16C1EF-575A-4889-9FC3-83D34308FD87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5CB70-6FF3-49C9-B21D-D43B286593FB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35000-1494-4088-B3D7-A700CB0AB55B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F70B7-674C-4C19-929E-B1396CB00207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B8B85-C8AE-436D-AA63-51C5488DEE57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9F0FD-E357-47BB-9198-6B7BB689565D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2BCED-2E38-4328-BADA-D928B14BA00E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1CA0A-9190-424F-808C-AD8412B2C85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A74BD9-630E-4A81-A903-F49838F2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33044-7B98-4A12-B77E-5E637F08F92B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4554D-B44B-4915-80B3-6F597C11193E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26A9B8-AE78-42FF-B485-C9F99E16E0FB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45733-31D3-4186-B0E4-356DE6F9E89C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9691A-9A51-4FF8-9855-BD5429541A46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8CD59F9-8F1B-487E-9799-F1846E90B124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C0B9ADE-BB0A-4209-9533-F95E177339DB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2D0534-E28A-4847-A6F2-69B9C1FF2F4D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E83F3E-A9EB-4D64-A361-6F2F174D7442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68B0DD-4E93-41C9-B6D1-C73B55B017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2986E8-9AEF-4CE4-B3B8-DA6520B9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61075A0-B0A7-4D04-96D8-2C888F185ECE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5938D47-F6DA-469E-97FC-AD337880A992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36135B9-B16F-4EA7-A215-B4159A867526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3FBF0FD-E763-4CC2-851F-50D79D9FD081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3A4E363-F486-4591-9C51-9006F7E4C308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FF63A0-5DDC-4C55-95E3-865E32C4551C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50F553A-2D7F-419A-A6B7-D447DC4EE3C6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2C509F-2A24-428A-9FC6-9875A0783D63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93A47C-928A-418E-A3A9-2FD1E0F04745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51E101-BDCE-4035-B13B-CD0650CB4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FF0D0-4420-41C1-B22B-CC72355A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B4E09C-8F8C-4840-AB72-F3FA24D7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AE434F-30B2-4066-83AF-879366686AF2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E64584-C81A-4938-A2B5-F2AC3FCAF605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670E45-5287-4B6B-8C84-561E3CDE6B8A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7ADB87-5781-45C7-9831-718BD807373C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5DDBBC-BB73-4D0E-921D-B329410AEFEA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C4F313-090B-43AD-A3C1-A611953C3B33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A833C7-5AA8-4113-B09A-01B560885A4C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3529A2-38D5-4B21-81FD-FAD82AA44C6B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6AA4EA-E664-4E85-BD37-F330225323F6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F1F1F-02A6-43A4-A0C4-1A26AA6EA1D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6F985D-0510-4A74-9F38-412CD2FB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0C60D5-B726-4CB3-9608-F8304A04395F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9215E-4E91-4D41-B4CE-C0BCB3CF983A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1F6F3B-82D8-4C18-A581-3E9C233BA435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F73284-23FB-49AC-A64D-7366DDF05867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F7D3DC-D7E8-44E6-9739-8D662509A015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977C34-5A5B-4448-A904-DD21760DD079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516DC7-2934-49F8-8C5C-99DAA6DD37CD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AE5029-E320-4897-99FF-B28C85BC809C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B876A-9458-4012-A294-4440E4E7F3D6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F2EEB8-4CD5-4FC4-AABE-16733F96048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B050A3-E80C-45DF-A83D-68254857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E98FAA-EC99-4073-BADE-D69D616ADED1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C90AB07-5291-4683-AD19-E0DA8E14C447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BCCAF9E-4F99-4854-910C-653EA5BEAFC3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4E194C6-A703-400F-8FCD-D347B8B61FA1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A5EF7E0-584D-4E22-ABE2-BDA96E18D6BA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FD1F8E4-7D9B-423A-9B16-2EE1B951F51A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C907EF4-0AA7-4554-BB4E-20958F77C843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6DA471F-2D21-4C77-B490-A7418183211E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5AB7B35-220C-4B5C-94F1-00F501A3E391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F27628C-5C1C-4093-85C1-4C23D89E1B0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DE6BD3-9C03-45D1-8432-A369860B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295F468-C10E-4566-A9CA-464E71E83AA5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C7BFE32-36B6-4A53-B4BB-41B1AA3D9F11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602AEC4-F496-4015-85D2-C000B2614528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5081735-ADFC-461F-99C3-AB55642B7364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71DCEDE-3532-43FA-B676-6E487590F6C2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1F5FD97-A4F7-41ED-813C-2EE5223958BD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F407672-A533-4604-948E-C9F20C5A9B62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B7B748-B294-4E72-BB4A-C2FC186387FB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11C7CCE-E33D-4D5A-92B2-AF19370DF6C6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20F0A91-915A-4BFB-92C2-F7F57CE7510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4C6E6E-C851-4860-9264-9500B7EA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9D72BCC-FCA1-4174-9F19-9C954C3126AB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9A74FCF-04AE-4CF2-BA5D-61CE1E3D1E20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A7EF153-DB8E-4835-BEA7-55EFB77CB005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1D14732-23FA-472D-83FC-57C83A26AE50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819A2E7-D821-47C8-BE6A-F6FB9FB1F141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49CE4F-B700-4577-A1CE-03439F12ADEB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56F1CB-9378-4485-859C-A589EA61DE3F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551B0D-1059-4432-90E2-01632693A60A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A562B9-B0AB-4BFC-82A1-E4915C68685D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4934F5-CBA0-43CB-A797-4156A6F061E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FAC136-9983-4774-BA6F-CCF9AEFD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0E0863-6825-4B85-98C3-C45B10B02667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B2C33E-CBA1-493C-B863-4B9364E4A877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B308E1-28B9-4CB6-89F0-744452CAD749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DA6D1C-4DE5-4220-AAE1-0AD69F0FBE0E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673A66-655E-496E-99F4-8491AA9A6F96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2BCA2E-5B5A-4E1C-9041-DEF64C2F5664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172514-E2A0-4C38-90F0-BBC14E59AFEF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151C53A-96F4-48AA-9F7C-C92F52E70C3E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E56A5EA-B445-4289-8D8B-9194E3EE8865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2B417D0-81D6-4409-A040-19E2CF216C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D55BBC-DFCA-4748-90AE-8FAC069F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C176649-88C6-4C8A-A79D-9EA9DA72A28A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307C7F4-2414-4D6E-AA52-5B8D27E6FFA2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714DF5C-DA64-46F1-849A-B07B40D30C32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6D46C8A-EFC8-4DC4-A750-E9BE3BAA81AB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FE2B8F0-5120-493E-8D19-A418C21BD1FD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D7476A1-9BF4-4C3B-BED8-83CFEB8B636B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CAF44BD-9F03-46E4-8040-123644563566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7770CC0-8210-40D7-970C-BAABFB030A15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923BEA8-0413-4267-9F8A-24324ABA1BF2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DF4B73B-77AC-4851-847E-F6AD6D770B7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F88BE3-7A5A-44A2-A4CE-414D697B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5C541E1-87F9-43AF-B28E-84507CCA4B4F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B8AB4E3-9785-4876-96AF-F21AECDE7711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B0837FE-1A1D-4DD5-A56C-9467A322BB6A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2D196C-54D8-495C-A56D-9412AD4A105E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3D3E374-B214-4FE4-AD91-E944A40B55CE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74615CD-10E2-4D80-BFDC-BE7A9DED6E5A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2CD099E-F5B3-4BCD-8C61-1043A7295725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1C85C50-D448-4903-A2BA-CFE3F98D3C6B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2A2A8A8-DCB0-4D4B-8E97-E394A195244C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EC8D9A4-B9DE-4E7B-B7CD-8971231F482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D79873-2135-452B-8D32-CF88FF3ED4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4617244-3D1B-4AF8-A0B7-89B3198BFCBC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057C4-C56D-472A-8FDB-B76640208A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FFE91A-88AC-49A3-9B54-DE874D304917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80C763-D70E-4800-918D-CDDCCA1A33CD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A7699A-1869-4784-AA23-798887D01AF9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6E7EAB-FE77-4F0E-A949-4B60DFC0EC28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AD4AFC-419A-463C-9AD1-1A322618CA5B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592B93-615D-4759-9CD8-B236CFAC1544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55F17D-0582-4895-A3F9-546F57CEFA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79A9-4BB2-4424-A7B4-8DAD5A26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5E43A-C50E-414A-88B6-F6F51A48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0353E9-8DF6-49BF-89D4-95E85821507B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083120-B797-4B1A-AD9D-59DD3EF112D9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9D9321-37A2-41ED-A424-2EBBD2B9E341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75DAC3-1C2F-42F9-90B3-185D12C1EA05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FA6AA0-B002-4842-9471-4E3DCAC25193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B5458DA-0CA5-4EA2-8CBD-C57066EB2EF3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13A91CE-123F-4483-863A-BB0FCD857825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F83D868-0B6E-48FE-B9B7-9CB92320FD3A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E533D0F-6F5C-4A6C-B848-EE0357E57806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2BE86A2-5D8A-4B0B-B880-42E2D2E2AC2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5B203-E776-4056-9C94-F1A316DF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3A93B3F-CB40-4AED-B637-60A8EDCAB03A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F8DAF76-A534-4FD5-8F7C-1E83E6C67EE1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D6681DE-DE0E-4939-8652-23174D2D5037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BA6AD88-4016-40DD-A1F5-0D2F5E0D844D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ABF3407-CC1D-40AA-86F5-96C77FAA4E73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63917E5-4B2C-4B17-84E5-44682E58AA66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574480F-65CA-4F13-904A-51CB8A47D037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3ADEB50-21A8-433F-80E1-A8A48CF5F975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A53ED92-6861-4D8D-B8BC-990F77C5A07B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3A868D4-D68E-4C03-8C91-077985D6360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A4E35-AADD-457C-93FB-7A159637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D3534B6-B9B9-4975-B155-926E4348156C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3930C13-6FFB-48E9-9A03-D6A454607D82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4D268B2-6768-480B-92F4-489B6C002EDD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E8E88D8-4F28-498E-A1B9-63790DF4A486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61C566F-B701-4DDE-8380-4DB8355F5B4E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7C9C110-4253-4861-8F8E-E1B3718818E7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1532E8D-59AE-4F14-B7A5-D1736659296B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FFA4A28-68D1-4A36-9B7E-06FE1948A036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EDF762F-78A4-4780-937F-4A1C5307FB95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BA3FE7-3862-4ECC-AEC4-E310337D7C9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A2CD9-13FE-417A-8396-0069DFE9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0979CF-2500-4ADD-9356-2C3F62555941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9016E6-0016-4832-815D-EB1EAC583B8E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21A374-4959-4014-BB21-035BB8BF2504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C6FE22-7181-402E-B1FE-3D6015A458E8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F4BE68-D788-4ABC-88BF-34E58557E939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4EF0CD-9723-4EBE-83EA-B1361EBBE8B1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C31C4B-7BA0-4CA3-87BC-22429125333F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E69E10-EA21-4835-9640-982EAC81911B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50B9B1-96E2-41B8-9C8C-53BD5F379F78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3279A4-C7B9-4973-BA6E-B2BE9218DCF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570C9-A83D-4CBD-9088-AC9D4966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88E9F2-707A-4B30-87DF-18DB1C99E7D2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6EFB596-0EE3-4FA8-AB29-D7795FB4118F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7828FF8-545D-49BF-9DB2-1A41F2A80593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18AA284-3740-4C6A-AB44-3E33C005556F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476C39B-E6D9-4ED9-AAE2-7EE207984DBB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B96AE26-0487-495E-AD46-38082778AC57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F485B98-6034-41EB-8DC4-32BD79B3E626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0EA2243-CAC3-45FE-BABF-1385A83A228B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F8E5112-66F6-43FB-B423-9D328BA90173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4E0EF5F-7F9E-4E03-977A-2C0D591114A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B7246-EC89-4D87-B0A7-34D158DF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84209EB-82CF-4C62-B97A-E133F26EAD60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56462DA-88EC-43A1-A1F5-CB3FD79887E0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E24F574-D0CA-4A74-BA14-D49D8F311A69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CED193F-0C77-4819-8B7E-817070870988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A17F344-47AE-4C7E-8ADF-8945C7150694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DBA4BA4-297D-46A8-8C87-67397443BF0E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5041468-9EA4-453D-99CC-7697144AFDC1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1C4B01B-D6F3-4E83-A06F-0F7AD5FE3893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526427C-C312-4E82-80C6-75124876E674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4B38C19-39E0-48BE-8344-F635EB510E0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CC63F-4FE1-4B4D-B228-971231C7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97DFBA9-64C1-4699-9362-36BA4AA60BC7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CBCA802-31B6-4F2C-8082-3F70FB7ED949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A283173-EAAC-4E39-8317-F52A90F42BA7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3D3901A-5FD6-47FD-91F1-4602D882BE4E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E72FEA9-94A2-48F2-BB08-0B345ED010D6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6B43FE-0F86-408F-AF53-A22399FD9BFC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2B408B-7F53-4E96-8302-B18A5296165D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ED93DE-5F71-4BB9-BF08-7D12F3EEAA51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F2327F-1047-40B2-BC3A-198E9B360B87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78D271-55D8-4CA4-8CD9-571CCBC1229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462A7-01B7-4CD2-8FF3-989F948A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2D54EE-6D43-432A-80FF-A61B6CDD3CA8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0AB009-C1C5-4315-A50A-2F6A93CADA7F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CDC251-4ABE-4857-B413-1CF25EA520A6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3178A8-6549-473F-AD1F-3E8E5D64E9A8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0E8DA0-648F-42CD-A603-7A95B693DE4B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52EE3E-2BFD-4FD4-9B9E-AE3D7BEB22A7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1E9F28-D8AF-4A7C-AFF6-409B1B128D12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99D8FF9-65AA-45DD-88DC-9EDEB335C2E3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4956E0C-5D8A-4449-912D-1D73FDD7CACD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C1F9232-17C2-4840-93CC-6ADDE2D93DB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78309-2FC1-4209-8CD6-16495433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ADDB262-7157-4EFC-BDAC-D1C8649DE8BF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B3A8BF6-03C2-4B5D-A3A9-776CE5EF14A2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88CE020-2E1F-481F-BEC3-D0B84DEA4725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7F68747-2359-4049-A998-30584063BC58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6B243A7-4919-42F6-ABDE-D290E44602F2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79EA4F8-4A45-485F-A748-50C677532057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E9AC23A-7EC2-4603-A687-7BFF7A64115D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3A1BDC1-CA8E-4DD4-B3E2-FBF7089C7762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0B27416-AE06-4315-9E8A-F13824D79193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8021E36-4581-4EEF-895C-70AE65472ED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B34B2-9AF4-4820-B7FA-FDE5894E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B7E3A8C-094A-4839-9231-D9F34D1AC4DA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FDF24BC-6DDB-4F5A-846E-7DCE4B52B082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885DAAE-5052-4789-B408-7CE6E705047C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35CEBB3-A7EF-4DB5-B62E-7B110B0D36DD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8B79D90-FA6E-4D01-937C-A0D99749ED00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8DDA980-6118-4CD6-B328-AE434C3FD713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644DDF7-7D75-431F-BAE8-300F49A989A7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7D9B0B4-BD89-4D48-84A7-39E036C9CDCD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D8A9F7D-3CCE-4582-B4C3-E5A7C22EEF11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D913722-050E-4A41-AE74-B84B9353A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186A-3C1E-431A-ADDC-3AB3D84C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204BC-85A1-4B65-B947-F0B9DE5F3D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714F9E3-7CCD-439E-8F6C-3009076EFC71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4D79BE-77CD-4518-A231-F9F2CF3D7149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B88B5A-E80D-4524-8E70-1DAE4DD7004F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A00B88-BC7C-404A-BD51-CD8D362C2FC3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486F5B-DAE5-45C3-AED5-0C9A6045C029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C41E41-5101-41CE-87FF-1AF8FA12D4F3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2DC8AB-0737-4D67-8D36-9B3D1C6428DE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2A9614-CD06-4A11-B618-1CB10EF7ACE2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49F7DB-8B1E-461C-941B-20D88F57A669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730911-9ECD-4255-8CBB-3F0712FFD2C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3C32A3-010A-4003-877E-B40C4226F3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0F37EF-9ED5-47F1-9FCC-76382431A536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341EBE-CF9E-4908-BD41-D64A7C78FA82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E2E612-29BB-45BB-9385-FA2E668866C4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273439-8BF5-4897-AFB3-1930ED4A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C3CDF27-DF6A-4553-8E39-124FE3832A02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4410505-2980-42F6-9027-3043AFEB641B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78F68FD-950B-4087-9EF8-51E7E4EB7BFD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C7A76B1-23F8-45DB-A801-E8FBB2C759EE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27540A7-3E04-4772-A68F-3D45EDD84B3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F4B59D-70D8-4657-98E7-434AC4B6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7C91EEE-F529-4623-B697-AEF9B756FABE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767555F-0EE3-47EE-8B63-1AC4AF4F2C5F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90FAB10-3B1C-4378-AACB-513DA05BAC8B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4B7A658-1B04-447F-8F8B-2911AA3D954D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BF480ED-FE7E-45EF-A0DA-F7E253C268D8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2923305-F862-44B2-9CE3-BB99D6CEBC6A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24ED683-A4AA-410A-B2C0-050B3262AFEC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338554F-621F-40C4-9C05-A713139A3930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6B48763-B802-496C-9F26-59D32027B28F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755D914-6EAB-4201-BD0C-7CEE1D0DAD1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3EB44C-F51E-469F-AB6F-E0E1A73D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AD4D79C-2686-4856-89DE-1180DE251702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63E702F-D191-4410-8F8C-DA4C094C86DF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5D4EA3F-6D57-479C-8966-68C521538F1B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4E94145-428C-4011-BCCC-8E0B66B3C1B2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E357D61-D806-4949-98DE-26D472FB9D54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4ED0A33-D55C-4CFE-90C6-2CE7FC10D8F6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3EA5DCE-E1B1-4214-A2C6-0B90412FDAC2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6E68D38-368C-4709-A21D-15B772F61789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C6306B8-C7F0-455B-92D8-02DCD1F5770A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7732C0-49B5-43C6-8312-E678ED04377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A77170-0AA4-44EF-965B-F28D50A0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80B848-561D-4475-8782-E4B19EBE4CA8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895646-CDB4-478E-B2D7-09BEA49BC483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4B3C01-172E-42BA-81AA-273C3A22005D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1081F5-43CD-4A9B-9C5B-473FFC332CD4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13C15D-5450-4EBB-9831-1C3B01E9C84E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9C6FFC-D6BB-4149-8E1B-3256C7AEAE0D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E6E30A-E1A5-4F28-B86C-A8DCEAF5B3DD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3E6297-FCBA-41D9-BC05-78FB91EA3219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75C1D4-106E-4D4C-8B20-2C52972E84C3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415DCD-C16D-4D00-823F-5B4B7964DEE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1F1478-B12E-4520-81E4-A687A23D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72CC8F-1D72-49B3-BC74-437B34CDDEC5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13C6E47-373F-4860-B915-32D173CC5FAA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6D00CAA-930D-4EE7-95C5-9FB3839A83B7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FD595BA-5870-4329-88B5-6A7E0D9E389F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6E03C46-444E-4CB5-BB49-9618BCF9AE56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B387AAB-364B-40BE-B865-6F4A2EB26F4D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DB12A00-A814-4FB4-B83D-A6100459C026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C6DA4CB-B7CC-4B94-9D0F-CBB6A1606549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D07649F-8C82-49FF-86F4-467E69286076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1A2B428-3F6F-4486-B35F-E5E3C06650B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4EB1EE-656E-41DF-921B-BBC61684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9C35A0C-F848-426D-9FDE-AA649C795968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D04777F-9C8C-4F61-BDE5-C02C6E9DD353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21998B0-F273-4897-8072-9650DDE6F9FC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391EF16-8E27-468A-946E-6B0BA671CD4C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CD72C29-6044-407E-949D-DC3AEB98CFB2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85EA0D8-2EB2-4F85-91F3-41FBAEF15C14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B236CBA-2E9C-4FE3-80FF-FF62923D2003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A805E73-84E0-473B-AB5C-9C7DCD4DD856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6810D06-F673-4B74-98ED-CF463837A05A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BA45022-A7D9-49D4-A5FA-180F8E6610B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C1D5C9-57DA-4FA1-A94F-DA4E0B40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6EDF372-6A85-4ABD-84D7-1F6CFB0E5E66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223FF9C-935F-4AAA-A5E0-C0D9C71E5C88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0994635-2D42-490B-B1B1-BBDC3F724A1A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2313AC7-DC48-4E5A-BCD1-C31FF4318A3F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58CCE4E-4F6C-45D9-99BB-2BAA6D3C8DE0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BDF2A5-5F99-448C-9220-C882AD3EA42F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B752B9-AB95-462C-97C5-94085362C13A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83636C-E860-4879-9434-B222D8713D0A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C7685F-464F-407C-B4E1-D4258678966F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A6F482-CD8C-4B48-B94E-B143E5AACA5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4B290B-7B47-46F0-804E-7FAFB71E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6DE5F8-14D5-451E-A343-1CF673A8994A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05C218-5AA8-46CC-8FFD-FF5352973085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73FB9A-CFAD-4A72-BFD3-A162EEA051CF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6117D4-C805-4B60-BC0A-4A214A5D9D7A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819D0F-E559-4B29-9F48-61C2AA6753A6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A5EC85-190D-4270-A8C8-C44D0C2E6C6E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9B74D6-87E5-4B73-AF8F-88A83414F796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1897934-E927-41A6-96DF-A2AAE5E66829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BAFF5F5-53D6-4577-8594-239E6E0FE50B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8B59EC8-23BA-4AD3-940E-891B14F5A0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DFF09-8B50-407A-85F3-46980746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06E221-B673-4C71-8F53-10DD5CC9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60C5350-76EE-4EA1-AC17-F1B577C8BBF8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8E919B0-3EC9-4975-A610-6CBD9DE6AEAA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6003E7F-FD79-4631-AB89-B7AA8550D3A9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D583508-5F8B-4CBD-B82C-C1BFFD655F70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A12E5EE-8FEA-45EB-875A-B52B946A4475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4011902-E91E-49BD-9D47-D6948A798B78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7A0D3EB-10C3-4183-9028-F12BF8EA4584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14C84A4-2E01-49C7-B26A-0C3013C37B74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887A427-2EFD-4EDD-AF9D-332EA4DA5435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0FAB295-E0BC-427D-8C21-C2FCEB5D085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41D52C-9230-4AB3-8F95-866C7F90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A63C924-1403-48A0-9547-95D258E71F40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8112A7D-4FE5-4C9B-AB73-B7ECB0DEF618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92C10C7-1749-4417-BF93-D9F5DC97E74B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FFF1C26-D1D5-40E7-B0FD-5D0A153A6F70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44FFBE8-3342-49DF-82CC-73828D6441AB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8191038-00B5-456D-992E-64929589C3CD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C77D809-B6D1-4322-AE6D-67FFC9CB0E66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5F96427-1D19-472F-806B-70D59734121C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C08F279-0A7C-4C76-9B06-CF6A8836210F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6E63E97-7014-4B53-A8F0-2F2CA5A5362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A146F8-4F05-4BDF-BC64-2AE590720B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4890F57-A532-4322-B03E-0592596D4BA9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6B1023-E5E5-4002-84D5-F9AAEF6AC932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B3881D-E6D7-4992-A99F-31168798EA91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318C00-29D1-4BCE-A8D7-8790A3F2EC64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51B3E8-464E-490A-9ED7-C26E24FBC6E7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22753A-2111-484F-8884-EE13176C3EBE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7CB099-EA21-4FC5-A0BB-2B3B2DF3FAC1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140272-00A7-4A2F-B1D4-978F425551FE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32A6DB-7E09-4C19-A54F-AEB654053D7D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F2C4B0-7F2B-4B9C-86D6-8E4903C17E0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AE279D-8AA2-410E-A192-3BCD1DA590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6AD167-1679-4BA9-B716-25C618F864F1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F04A1D-D7F8-418A-B076-343B62D833DA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903A27-B5E2-419B-AE62-BB29B4A6167C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26F0039-D62E-41A2-A60B-6BE7D6D80AD1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67D0D1E-86B5-4C90-81B4-A1BBE59CF899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7250D84-9E79-40A0-A69E-207FE5C66884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DFDCA51-49FD-403B-B064-9795CE425057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9311338-7F1D-4320-AF02-E25982481F97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AE9E76E-56CA-4B28-933F-E97EC85DC7A4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BB183DF-E868-495E-988A-D6625DDDB16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11D794-748E-4B0D-B355-5F257303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85401AE-2CF1-4E3B-8428-8307EB62141D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6847459-0A56-4337-83E0-6D6B8E91AD80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397B0E0-92A9-4AE4-8261-DDD00FCABF11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CF58F26-670A-4A86-9C6A-FB9FAFD0401B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A5A095B-A591-42C7-8756-7D6B3668A086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8839F4-EDB0-40C1-9383-5CC0F620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08C2B62-9C42-4F6C-A278-0939C1910A34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B80251F-787E-4CE0-B1D4-756943237488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378C925-DDC9-491E-B5F7-83A23056270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8B5EFC-DBC4-4D6D-A00F-FE3E95F7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CFD07C5-015B-4B7D-BC8D-68924FFD74DE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9B9CB92-DC3C-44CB-86C3-95F475B62481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B1812F6-1BB0-4709-B9AE-2955A687E605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1106011-636B-49E4-B505-76523D08D159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D91696C-5E03-4F7A-9F9A-039AA7E74ECA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9D98540-B1AD-4D7D-9A9A-9A5B4AE4DC28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AE15BD6-CD81-4865-AF3B-691D8607D5C8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F617434-30BA-4537-B3B1-69280F54C123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1C2B704-8F5F-409C-BE51-55BDBBD85828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6411A3-8805-44E1-8009-4A8E5CDD0E4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3D623F-7808-4AEA-BCC1-B0DE8F30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5AFD6B-5289-4046-90F7-26CD5CFF0A61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C459AB-016A-40A6-A227-1ED0C0F9B4DF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8FBAEE-0DD8-4FE0-8E3A-A4903998C9DA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6D309E-822E-4186-8DF6-930B575F9C9B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F04A58-2DC8-4A62-AA60-DE098E4CE2D4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2AA98E-16E4-45E6-9550-FF218941A983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C59CEA-0D52-47BF-B182-D22196E25492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E83516-F9BD-4C83-855D-4D37CCEC3C89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72A53B-4B61-41DE-899D-AE802083B2A7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CA974A-B45F-40DB-AB27-6CCF9364904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1BE0F8-590E-42DE-A8ED-E13218C9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E6F48C-DAC7-44F0-9F44-C62FCB8056B0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8EB05ED-C38A-4E3A-8C60-BF7B044E5959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F8626CE-2E1A-46BB-9768-54530910EB14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E609E7A-1B5D-43A9-8FC3-3B475AB93C63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A4B4235-3C77-4B4D-973F-60FBB8CA358C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9DEC4EF-C6C7-4480-8542-869F979F3E34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4201DC2-1335-429C-B237-7A477119773A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470BEC7-18ED-45A1-B8F6-8DB4B9E1418E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F2F4559-E29A-4B98-B41D-AEDEF4AF57BD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EAEFDD1-B640-45AA-93D4-91C2EFCBF15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D39F56-3FB7-4C3F-B1EF-613DC54B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50418E8-2A9C-4D86-BE15-89F458D6E12F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B626A9E-CF9F-4412-B51B-597A291BE51A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6D5666C-B93B-416F-9F70-0B8D067F3119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47E8106-58E0-48F5-9E11-90BADE6A96C0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F6661FF-F4CF-43C4-8CA9-C7A667E8C631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18585A9-2FC7-4424-85DA-667DB5649FBE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8826733-F5AC-42A5-8843-92F132073E1E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FC5D3C5-DADD-467A-BADC-7A75DC5A819B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460072A-7395-4AB2-95D6-5956C9063640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979BCCB-AF28-4BE0-A899-6DCB49D1C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92AE-8C22-4169-80DE-7F452B0E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910E3B-569A-4021-A8F9-98144BB8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2C171B7-BE0A-492B-A88D-BC52079AD766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39C1410-F6DF-4394-A787-C9940F6B1117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9169DF3-904E-42C0-B477-C8F4D2A03314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1920EBF-B4A3-4553-83B4-5582DE84C930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04B62BD-E334-4994-BA07-3087F4A118A7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104359-1AB0-458D-A1F6-A881B54C491E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BF76A3-9A9F-407F-98D1-899BD78CB19F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314F38-FD1B-465A-9B07-09E639F013E8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6209F1-D5E5-4254-A798-FB294E60C72A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787882-7B12-4857-9AF1-18BD5BC6E2D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B73C60-BDBD-4ECD-BD3B-97C758DD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224F07-B15B-4354-B496-974F9EDCC6BD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86A88B-8577-4C61-9289-613B23F559A3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FC8DC5-6DCC-43BD-9068-6CF6ABF95BFD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F01C6F-D505-49CA-9FC0-38281941D4C9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696B72-DFC1-4B23-BD73-9D7950BD46C7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FD4C44-2E50-4C15-9ED9-8EF7F6F36E40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7F7BC8-0C95-4A68-8F7F-35183B27D8A9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095BAB7-8BF2-4095-9A28-68FD0106D0ED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7BF7C3E-AA8B-41B7-8FCB-86354BBC8A4A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B3CD1C2-F414-4352-85A5-E0E2F1D68AB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581565-E509-49E0-8D8A-6C188714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1798BFA-766D-41E7-8CA3-75ACDC1BE318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C7773F5-16F5-4C59-BD25-928212B487D4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DEB6D14-6DBF-4C85-AE60-28EA5DDD658F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6489400-8037-4DF4-9F66-47079A4B8045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9A798C0-EEC5-47E3-983E-BCC250847993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ED14DFF-83FD-425B-A0AC-5D0E54610DB2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DC0D90F-16DF-401E-AE35-7ED3B2FCF872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11FC486-803C-4930-8AA0-96CBE9AD1BDE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42B7635-C4AD-45D7-9E03-32C0C16136AB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819D3D8-5EE7-403A-B984-6C1953DF128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FD9DB5-0057-4D19-85EF-1C957CA6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7F297AB-EB80-4D1C-8380-6AF871F6DC59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7B53B81-D142-4C0F-ADA1-297671AD8E27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14B9425-34D7-4013-8DF9-FCEEF6DDA505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0AE72EE-250F-4753-8AFE-09F534EC544D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C3EE9F5-C6E9-41C8-A9C7-28A75E8AA6CE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D3FBE58-D081-4F38-841C-A6301074B38C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14E271B-BAA8-4A6B-8AB9-D449DD2561F2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F1545C6-F4EF-4E65-8F7A-021BACE53A4F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1447342-F17E-47A7-9ADF-34D5C3BC4E10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DAB2EAE-C307-4AEF-81D0-3610D31B19C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0313FC-61B2-42E1-A0F2-2C35848971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F53BDB6-6752-4999-BAE2-916DA8BDE21B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A697CA-1487-4D17-808C-C85B7665643C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8159E2-4F07-44DE-8E34-979E4F25A504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5C8911-D593-4FAB-9638-5A321EE9F30F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2A8BCE-E9F0-4DB7-A947-8FC2823C32CB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557408-9C04-499C-BC9A-B2C3787EAF94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0351AE-8DFA-43CA-A968-120C8164B5CC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5E1D9B-58BC-495E-992F-4C855823CA56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2B48A6-3A77-44BC-8A09-E2C3D2578832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FF64FC-C5AE-4895-A214-D2341FAA123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83D00A-8F3F-4E65-BC48-64389618908D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757B8A-F847-47F8-B0AD-119F3F042AD9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FFA30C-099C-4823-A455-6F2AF518A6C4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AA9166F-4DFC-42EF-B4F4-BF74226111CE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09E322C-189F-47FB-8ACA-05FD715F21F4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F823449-D575-460C-B2DD-C649D19C797F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400CAE0-7CDC-4835-B0E2-0B6EA3F53EC9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9B62A62-2DBE-4668-8449-43DE077EEECD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EFA6908-F8E3-4535-9A87-FFDD95F4DE15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23D1786-2464-46E4-920C-C5E27A63EEA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A566C01-7573-4FA9-A16B-FE3C3794731A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C5AAAB1-6E67-451B-A3C2-1FE690EE8FA0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B3BF285-F5A8-4F6C-B6E6-1C6883D8C0E0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6B2C36C-3E9A-44DC-ABE4-BADDDC5AD180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E6E74B9-6547-4E3B-AAC4-956120911C21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DCD019B-13FB-4774-9DBF-7F1A3A18DEA4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9BA038D-3E98-484C-902F-71E916C3D0A6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5535C75-5DF1-4217-8804-8C501329B338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FAACEBF-4AF7-4EAE-88AA-48AE20BF045A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F984DB9-41F1-4B1C-80D4-7552182F217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0FE53BF-FF79-43E7-97FC-5624D10ED151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79B0A79-305E-4BEF-A709-B453025D1DAE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A922791-F0FC-40C4-8791-219CCDCDC347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C2B024F-592A-4A16-9B59-D83087EB23CB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CA07BC2-38B7-4882-B3F7-74DDE4B02142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39BF247-A200-4166-A1A1-C82474F9196C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6E1BED8-2A62-4B0F-933B-CD26DB9862D7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E1C7A7-C359-4717-9517-F628E95B152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29C6A6-C0D2-466E-B7E6-E445DB485EE0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830B6E-5A91-4B75-85B2-EB7A7160C547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348945-01DB-4969-B12A-94992EA2F1E1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3A478A-8EFC-4999-A915-ABAD784ED2D8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B249BC-EB08-4A1C-ABDC-D8899333A228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ADCA69-D7AE-4945-B33F-0ABCA1B32C70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67705A-0C1E-44A7-9937-0B0451D584F1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85B541-8F4F-411B-B028-D8848B9A2281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9187FD-3097-427F-9A37-6214E157DE99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9762CD-0C32-4979-BB7D-0311EA2B2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A316D-29E0-4647-924F-C7DA0109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CF1AB4-2C41-4C43-83A7-1779C511EEA1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1CF4556-99EE-40B9-B789-948C41686B76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DBBD9DF-9349-48C9-80C9-22E060C48547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786273B-A2BD-4B0B-92B3-729F78493630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46FA6B0-93CA-45CC-842B-E4BA87ED01BC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CA56043-5A29-49B3-81AA-D904AD167AB5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D95975C-04A6-49AA-B9D0-9AED1FD59884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2FB960D-1E36-4583-8A80-7A1B8BC53131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834472A-AF7B-40E7-99E9-13C356BC16AC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4B2D929-FB42-4EE3-A95A-D788F94802E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5FD552A-B0DC-4CB1-860E-5A84C1E5D12C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93439E3-1071-454A-AE8A-0F77279D24DF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04CB259-C052-47A2-9B4F-D28DC27E4ACD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2E434C3-805F-45BC-8A17-8FC623B7EF48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0F19F21-54A4-4041-BF3E-5D943D17B018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4AF83C8-4A90-49F1-B2A6-93D0F3F13D82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8B1010B-8978-4E7A-8593-DC540E36DC17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7BDB65F-CF4A-478B-BDBD-E56BD63E40C2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BA7CD78-12D2-4F12-B03C-2DE0400E4E80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9A2E477-7CA2-4D44-9946-5185CC8BEA2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8AFD890-EA91-42D6-90BB-525A434D956A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EDFDCA1-EC23-4E7E-BB29-13BCD6253F45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3338577-4A42-4CD9-9C4B-581E2A5DF3F2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BA36793-F67C-4C81-9D74-5311F75B597F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055C207-1480-4E34-BBEB-9C93E76F8503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92353C-7DDF-42DF-A409-A24CCF4FCA5A}" type="slidenum">
              <a:t>&lt;#&gt;</a:t>
            </a:fld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8213D3-E000-4561-8DDA-F0917046047E}" type="slidenum">
              <a:t>&lt;#&gt;</a:t>
            </a:fld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62B3A0-AF47-430F-9EFC-25C470E2D4C9}" type="slidenum">
              <a:t>&lt;#&gt;</a:t>
            </a:fld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9A1AA2-C6A7-40EF-BB95-DD6C60552DD8}" type="slidenum">
              <a:t>&lt;#&gt;</a:t>
            </a:fld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B51B76-80AC-438A-B150-FCED8C56971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A80589-287B-4313-A7AE-994989A5C9A5}" type="slidenum">
              <a:t>&lt;#&gt;</a:t>
            </a:fld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C8FD84-0B62-43D5-B394-F50667458B89}" type="slidenum">
              <a:t>&lt;#&gt;</a:t>
            </a:fld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ECBACE-552B-474B-9508-4A5F2EB32DF4}" type="slidenum">
              <a:t>&lt;#&gt;</a:t>
            </a:fld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E04236-0667-48C9-8C6A-C975C0413FDF}" type="slidenum">
              <a:t>&lt;#&gt;</a:t>
            </a:fld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DD6721-CBA0-48C9-A21F-EAF64CE80591}" type="slidenum">
              <a:t>&lt;#&gt;</a:t>
            </a:fld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CA0B94-3BF6-4074-8F5B-D59CB13F16ED}" type="slidenum">
              <a:t>&lt;#&gt;</a:t>
            </a:fld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A10A1A-0330-4F95-839B-C09A4A412647}" type="slidenum">
              <a:t>&lt;#&gt;</a:t>
            </a:fld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261CA2A-7D06-467E-9B66-7C06771F5297}" type="slidenum">
              <a:t>&lt;#&gt;</a:t>
            </a:fld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4C711BF-2A06-46E9-AC94-E3F1B5BAD20A}" type="slidenum">
              <a:t>&lt;#&gt;</a:t>
            </a:fld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07B14DE-4A4A-4ED9-AB09-BC5AEAE4B5A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3354F37-2DAD-483A-9564-3E259141339A}" type="slidenum">
              <a:t>&lt;#&gt;</a:t>
            </a:fld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89A25DC-3DB1-404B-89B4-BB270B9E692E}" type="slidenum">
              <a:t>&lt;#&gt;</a:t>
            </a:fld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D154496-93A1-49D8-9D17-A7250D318E57}" type="slidenum">
              <a:t>&lt;#&gt;</a:t>
            </a:fld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9411318-3D61-4BDB-8F7D-75AB77A1D363}" type="slidenum">
              <a:t>&lt;#&gt;</a:t>
            </a:fld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884692D-3B86-44CE-99DC-F34906A20A66}" type="slidenum">
              <a:t>&lt;#&gt;</a:t>
            </a:fld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845F539-69EF-467A-A55D-B66A64BAA24B}" type="slidenum">
              <a:t>&lt;#&gt;</a:t>
            </a:fld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2C5A00D-B36D-4960-AEAA-C01AC2F4C9F4}" type="slidenum">
              <a:t>&lt;#&gt;</a:t>
            </a:fld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FCB4C1F-6804-4320-88A8-C1D5F735E8DC}" type="slidenum">
              <a:t>&lt;#&gt;</a:t>
            </a:fld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88D439C-1E1C-4AAB-8C50-79E2C4FA38AA}" type="slidenum">
              <a:t>&lt;#&gt;</a:t>
            </a:fld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8D4941C-FD8E-4725-B8D9-FD712590C61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001506D-24E6-4DE4-BC22-B6986C295563}" type="slidenum">
              <a:t>&lt;#&gt;</a:t>
            </a:fld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C02C96A-54BE-43D8-AD06-663882A81CF0}" type="slidenum">
              <a:t>&lt;#&gt;</a:t>
            </a:fld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34E2C19-896B-4694-9EBE-0C557D3A9910}" type="slidenum">
              <a:t>&lt;#&gt;</a:t>
            </a:fld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BFF8A24-F18E-4728-9CF0-2E9DF3ADD855}" type="slidenum">
              <a:t>&lt;#&gt;</a:t>
            </a:fld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9F2B6BE-9B39-47AC-96C1-A43219E90B05}" type="slidenum">
              <a:t>&lt;#&gt;</a:t>
            </a:fld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AD58834-0951-46CE-A2F2-68F51E509B42}" type="slidenum">
              <a:t>&lt;#&gt;</a:t>
            </a:fld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0E8E126-C07C-475E-AC60-602753B02538}" type="slidenum">
              <a:t>&lt;#&gt;</a:t>
            </a:fld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FC4D0E0-5754-4B65-BDA1-A94AE46CDD72}" type="slidenum">
              <a:t>&lt;#&gt;</a:t>
            </a:fld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A27FF14-9B12-47BA-BB37-D15A81872A01}" type="slidenum">
              <a:t>&lt;#&gt;</a:t>
            </a:fld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533219E-6B6A-4378-BC24-57C8061CF1D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DDFF109-52C2-4CB7-8A5D-3B1CCD70D417}" type="slidenum">
              <a:t>&lt;#&gt;</a:t>
            </a:fld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C4274D-DCAA-4300-B0F8-35417DAB7EAB}" type="slidenum">
              <a:t>&lt;#&gt;</a:t>
            </a:fld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C872C7-D3FD-4006-AE4E-F7CD4A08C5D1}" type="slidenum">
              <a:t>&lt;#&gt;</a:t>
            </a:fld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2EB0060-D572-460A-A3B3-C7D9AEC629DE}" type="slidenum">
              <a:t>&lt;#&gt;</a:t>
            </a:fld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270EC0-6BEC-4444-ABCD-A9E9F70CFD94}" type="slidenum">
              <a:t>&lt;#&gt;</a:t>
            </a:fld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EB91D0-AAB6-444D-A46E-A9A4AFA20253}" type="slidenum">
              <a:t>&lt;#&gt;</a:t>
            </a:fld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6FB738-DC66-4FCF-BE37-A57EA07ABEAD}" type="slidenum">
              <a:t>&lt;#&gt;</a:t>
            </a:fld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328060-7DBC-4E22-9683-93D1E6B6D4CD}" type="slidenum">
              <a:t>&lt;#&gt;</a:t>
            </a:fld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BD873E-5C25-4A8E-94F1-ED7DB4BDB891}" type="slidenum">
              <a:t>&lt;#&gt;</a:t>
            </a:fld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61DA52-A2F9-46EE-9708-873C4C97692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3931E-1DAA-4009-963A-49AC16BC0BFA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71A303-E5BE-4096-B355-E9EB341585C5}" type="slidenum">
              <a:t>&lt;#&gt;</a:t>
            </a:fld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7A0715-7E35-4AB1-ADEA-387C62D034BA}" type="slidenum">
              <a:t>&lt;#&gt;</a:t>
            </a:fld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2B6EAB-8410-40D3-BA26-549681AC6F26}" type="slidenum">
              <a:t>&lt;#&gt;</a:t>
            </a:fld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CCFBCC3-3FE5-498F-BD62-5B5CB9A0B70F}" type="slidenum">
              <a:t>&lt;#&gt;</a:t>
            </a:fld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72164AE-0276-402B-9213-D14731C5B205}" type="slidenum">
              <a:t>&lt;#&gt;</a:t>
            </a:fld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8620F7E-950D-4C6A-A16A-3CEA144CB003}" type="slidenum">
              <a:t>&lt;#&gt;</a:t>
            </a:fld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068FDAA-08AD-49AA-AA20-E1D20157AB00}" type="slidenum">
              <a:t>&lt;#&gt;</a:t>
            </a:fld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A55F5B1-3E1F-48A0-AE16-F3E30A18CE87}" type="slidenum">
              <a:t>&lt;#&gt;</a:t>
            </a:fld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BBBC74A-312F-4697-9A1E-5F905F46099C}" type="slidenum">
              <a:t>&lt;#&gt;</a:t>
            </a:fld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540C195-1CB5-4A26-85C3-9F132618C28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16F48-F647-4292-B69C-6708ABFB750B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39F8158-9556-41A2-8DC2-7268530BA3A4}" type="slidenum">
              <a:t>&lt;#&gt;</a:t>
            </a:fld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B508FDF-04A4-4D61-8A02-3AC68FF6FEAA}" type="slidenum">
              <a:t>&lt;#&gt;</a:t>
            </a:fld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5D40454-3FC9-4E43-973B-CEB3F6AF2162}" type="slidenum">
              <a:t>&lt;#&gt;</a:t>
            </a:fld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CD5F4F3-443B-4D61-B19F-112CA6511EE2}" type="slidenum">
              <a:t>&lt;#&gt;</a:t>
            </a:fld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E30187E-5BA6-41F0-A513-0B4110820C1C}" type="slidenum">
              <a:t>&lt;#&gt;</a:t>
            </a:fld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71A6E04-A30C-4820-98B4-4AE706AFA336}" type="slidenum">
              <a:t>&lt;#&gt;</a:t>
            </a:fld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6643EE0-EB1F-43D8-9854-09E9BF067EB0}" type="slidenum">
              <a:t>&lt;#&gt;</a:t>
            </a:fld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B8D71D6-A9A9-486A-9752-ED578E556465}" type="slidenum">
              <a:t>&lt;#&gt;</a:t>
            </a:fld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5797773-1D31-49D8-82A1-A4EA370FE6FE}" type="slidenum">
              <a:t>&lt;#&gt;</a:t>
            </a:fld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BF4A97B-6C8D-4354-BD66-E85C973AD91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8EAF3-0FFE-429B-9B75-DEACAB37E57D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73274CC-1A26-423D-A0E2-BEC1BCC98835}" type="slidenum">
              <a:t>&lt;#&gt;</a:t>
            </a:fld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9A30F2C-2858-4BA0-BF76-711DA4FA6CEE}" type="slidenum">
              <a:t>&lt;#&gt;</a:t>
            </a:fld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56B824E-25E7-430B-9CD8-06D951576379}" type="slidenum">
              <a:t>&lt;#&gt;</a:t>
            </a:fld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E681606-2916-4EC5-9DAA-F860D5266D36}" type="slidenum">
              <a:t>&lt;#&gt;</a:t>
            </a:fld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D011992-FF5C-41B0-A94F-1352E7FFBC3C}" type="slidenum">
              <a:t>&lt;#&gt;</a:t>
            </a:fld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4A879BA-803E-4896-9082-3DAD8E68F26E}" type="slidenum">
              <a:t>&lt;#&gt;</a:t>
            </a:fld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E2A64BD-DB7B-434B-8900-C493AAE432A2}" type="slidenum">
              <a:t>&lt;#&gt;</a:t>
            </a:fld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800D32-7832-4729-9E77-465E0A22136D}" type="slidenum">
              <a:t>&lt;#&gt;</a:t>
            </a:fld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59A914-3CFC-4907-8673-2D11AA1D76DE}" type="slidenum">
              <a:t>&lt;#&gt;</a:t>
            </a:fld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2591B9-470D-4317-B763-D4CC28009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3.xml"/><Relationship Id="rId5" Type="http://schemas.openxmlformats.org/officeDocument/2006/relationships/slideLayout" Target="../slideLayouts/slideLayout734.xml"/><Relationship Id="rId6" Type="http://schemas.openxmlformats.org/officeDocument/2006/relationships/slideLayout" Target="../slideLayouts/slideLayout735.xml"/><Relationship Id="rId7" Type="http://schemas.openxmlformats.org/officeDocument/2006/relationships/slideLayout" Target="../slideLayouts/slideLayout736.xml"/><Relationship Id="rId8" Type="http://schemas.openxmlformats.org/officeDocument/2006/relationships/slideLayout" Target="../slideLayouts/slideLayout737.xml"/><Relationship Id="rId9" Type="http://schemas.openxmlformats.org/officeDocument/2006/relationships/slideLayout" Target="../slideLayouts/slideLayout738.xml"/><Relationship Id="rId10" Type="http://schemas.openxmlformats.org/officeDocument/2006/relationships/slideLayout" Target="../slideLayouts/slideLayout739.xml"/><Relationship Id="rId11" Type="http://schemas.openxmlformats.org/officeDocument/2006/relationships/slideLayout" Target="../slideLayouts/slideLayout740.xml"/><Relationship Id="rId12" Type="http://schemas.openxmlformats.org/officeDocument/2006/relationships/slideLayout" Target="../slideLayouts/slideLayout741.xml"/><Relationship Id="rId13" Type="http://schemas.openxmlformats.org/officeDocument/2006/relationships/slideLayout" Target="../slideLayouts/slideLayout742.xml"/><Relationship Id="rId14" Type="http://schemas.openxmlformats.org/officeDocument/2006/relationships/slideLayout" Target="../slideLayouts/slideLayout743.xml"/><Relationship Id="rId15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69.xml"/><Relationship Id="rId5" Type="http://schemas.openxmlformats.org/officeDocument/2006/relationships/slideLayout" Target="../slideLayouts/slideLayout770.xml"/><Relationship Id="rId6" Type="http://schemas.openxmlformats.org/officeDocument/2006/relationships/slideLayout" Target="../slideLayouts/slideLayout771.xml"/><Relationship Id="rId7" Type="http://schemas.openxmlformats.org/officeDocument/2006/relationships/slideLayout" Target="../slideLayouts/slideLayout772.xml"/><Relationship Id="rId8" Type="http://schemas.openxmlformats.org/officeDocument/2006/relationships/slideLayout" Target="../slideLayouts/slideLayout773.xml"/><Relationship Id="rId9" Type="http://schemas.openxmlformats.org/officeDocument/2006/relationships/slideLayout" Target="../slideLayouts/slideLayout774.xml"/><Relationship Id="rId10" Type="http://schemas.openxmlformats.org/officeDocument/2006/relationships/slideLayout" Target="../slideLayouts/slideLayout775.xml"/><Relationship Id="rId11" Type="http://schemas.openxmlformats.org/officeDocument/2006/relationships/slideLayout" Target="../slideLayouts/slideLayout776.xml"/><Relationship Id="rId12" Type="http://schemas.openxmlformats.org/officeDocument/2006/relationships/slideLayout" Target="../slideLayouts/slideLayout777.xml"/><Relationship Id="rId13" Type="http://schemas.openxmlformats.org/officeDocument/2006/relationships/slideLayout" Target="../slideLayouts/slideLayout778.xml"/><Relationship Id="rId14" Type="http://schemas.openxmlformats.org/officeDocument/2006/relationships/slideLayout" Target="../slideLayouts/slideLayout779.xml"/><Relationship Id="rId15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81.xml"/><Relationship Id="rId5" Type="http://schemas.openxmlformats.org/officeDocument/2006/relationships/slideLayout" Target="../slideLayouts/slideLayout782.xml"/><Relationship Id="rId6" Type="http://schemas.openxmlformats.org/officeDocument/2006/relationships/slideLayout" Target="../slideLayouts/slideLayout783.xml"/><Relationship Id="rId7" Type="http://schemas.openxmlformats.org/officeDocument/2006/relationships/slideLayout" Target="../slideLayouts/slideLayout784.xml"/><Relationship Id="rId8" Type="http://schemas.openxmlformats.org/officeDocument/2006/relationships/slideLayout" Target="../slideLayouts/slideLayout785.xml"/><Relationship Id="rId9" Type="http://schemas.openxmlformats.org/officeDocument/2006/relationships/slideLayout" Target="../slideLayouts/slideLayout786.xml"/><Relationship Id="rId10" Type="http://schemas.openxmlformats.org/officeDocument/2006/relationships/slideLayout" Target="../slideLayouts/slideLayout787.xml"/><Relationship Id="rId11" Type="http://schemas.openxmlformats.org/officeDocument/2006/relationships/slideLayout" Target="../slideLayouts/slideLayout788.xml"/><Relationship Id="rId12" Type="http://schemas.openxmlformats.org/officeDocument/2006/relationships/slideLayout" Target="../slideLayouts/slideLayout789.xml"/><Relationship Id="rId13" Type="http://schemas.openxmlformats.org/officeDocument/2006/relationships/slideLayout" Target="../slideLayouts/slideLayout790.xml"/><Relationship Id="rId14" Type="http://schemas.openxmlformats.org/officeDocument/2006/relationships/slideLayout" Target="../slideLayouts/slideLayout791.xml"/><Relationship Id="rId15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93.xml"/><Relationship Id="rId5" Type="http://schemas.openxmlformats.org/officeDocument/2006/relationships/slideLayout" Target="../slideLayouts/slideLayout794.xml"/><Relationship Id="rId6" Type="http://schemas.openxmlformats.org/officeDocument/2006/relationships/slideLayout" Target="../slideLayouts/slideLayout795.xml"/><Relationship Id="rId7" Type="http://schemas.openxmlformats.org/officeDocument/2006/relationships/slideLayout" Target="../slideLayouts/slideLayout796.xml"/><Relationship Id="rId8" Type="http://schemas.openxmlformats.org/officeDocument/2006/relationships/slideLayout" Target="../slideLayouts/slideLayout797.xml"/><Relationship Id="rId9" Type="http://schemas.openxmlformats.org/officeDocument/2006/relationships/slideLayout" Target="../slideLayouts/slideLayout798.xml"/><Relationship Id="rId10" Type="http://schemas.openxmlformats.org/officeDocument/2006/relationships/slideLayout" Target="../slideLayouts/slideLayout799.xml"/><Relationship Id="rId11" Type="http://schemas.openxmlformats.org/officeDocument/2006/relationships/slideLayout" Target="../slideLayouts/slideLayout800.xml"/><Relationship Id="rId12" Type="http://schemas.openxmlformats.org/officeDocument/2006/relationships/slideLayout" Target="../slideLayouts/slideLayout801.xml"/><Relationship Id="rId13" Type="http://schemas.openxmlformats.org/officeDocument/2006/relationships/slideLayout" Target="../slideLayouts/slideLayout802.xml"/><Relationship Id="rId14" Type="http://schemas.openxmlformats.org/officeDocument/2006/relationships/slideLayout" Target="../slideLayouts/slideLayout803.xml"/><Relationship Id="rId15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05.xml"/><Relationship Id="rId5" Type="http://schemas.openxmlformats.org/officeDocument/2006/relationships/slideLayout" Target="../slideLayouts/slideLayout806.xml"/><Relationship Id="rId6" Type="http://schemas.openxmlformats.org/officeDocument/2006/relationships/slideLayout" Target="../slideLayouts/slideLayout807.xml"/><Relationship Id="rId7" Type="http://schemas.openxmlformats.org/officeDocument/2006/relationships/slideLayout" Target="../slideLayouts/slideLayout808.xml"/><Relationship Id="rId8" Type="http://schemas.openxmlformats.org/officeDocument/2006/relationships/slideLayout" Target="../slideLayouts/slideLayout809.xml"/><Relationship Id="rId9" Type="http://schemas.openxmlformats.org/officeDocument/2006/relationships/slideLayout" Target="../slideLayouts/slideLayout810.xml"/><Relationship Id="rId10" Type="http://schemas.openxmlformats.org/officeDocument/2006/relationships/slideLayout" Target="../slideLayouts/slideLayout811.xml"/><Relationship Id="rId11" Type="http://schemas.openxmlformats.org/officeDocument/2006/relationships/slideLayout" Target="../slideLayouts/slideLayout812.xml"/><Relationship Id="rId12" Type="http://schemas.openxmlformats.org/officeDocument/2006/relationships/slideLayout" Target="../slideLayouts/slideLayout813.xml"/><Relationship Id="rId13" Type="http://schemas.openxmlformats.org/officeDocument/2006/relationships/slideLayout" Target="../slideLayouts/slideLayout814.xml"/><Relationship Id="rId14" Type="http://schemas.openxmlformats.org/officeDocument/2006/relationships/slideLayout" Target="../slideLayouts/slideLayout815.xml"/><Relationship Id="rId15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29.xml"/><Relationship Id="rId5" Type="http://schemas.openxmlformats.org/officeDocument/2006/relationships/slideLayout" Target="../slideLayouts/slideLayout830.xml"/><Relationship Id="rId6" Type="http://schemas.openxmlformats.org/officeDocument/2006/relationships/slideLayout" Target="../slideLayouts/slideLayout831.xml"/><Relationship Id="rId7" Type="http://schemas.openxmlformats.org/officeDocument/2006/relationships/slideLayout" Target="../slideLayouts/slideLayout832.xml"/><Relationship Id="rId8" Type="http://schemas.openxmlformats.org/officeDocument/2006/relationships/slideLayout" Target="../slideLayouts/slideLayout833.xml"/><Relationship Id="rId9" Type="http://schemas.openxmlformats.org/officeDocument/2006/relationships/slideLayout" Target="../slideLayouts/slideLayout834.xml"/><Relationship Id="rId10" Type="http://schemas.openxmlformats.org/officeDocument/2006/relationships/slideLayout" Target="../slideLayouts/slideLayout835.xml"/><Relationship Id="rId11" Type="http://schemas.openxmlformats.org/officeDocument/2006/relationships/slideLayout" Target="../slideLayouts/slideLayout836.xml"/><Relationship Id="rId12" Type="http://schemas.openxmlformats.org/officeDocument/2006/relationships/slideLayout" Target="../slideLayouts/slideLayout837.xml"/><Relationship Id="rId13" Type="http://schemas.openxmlformats.org/officeDocument/2006/relationships/slideLayout" Target="../slideLayouts/slideLayout838.xml"/><Relationship Id="rId14" Type="http://schemas.openxmlformats.org/officeDocument/2006/relationships/slideLayout" Target="../slideLayouts/slideLayout839.xml"/><Relationship Id="rId15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77.xml"/><Relationship Id="rId5" Type="http://schemas.openxmlformats.org/officeDocument/2006/relationships/slideLayout" Target="../slideLayouts/slideLayout878.xml"/><Relationship Id="rId6" Type="http://schemas.openxmlformats.org/officeDocument/2006/relationships/slideLayout" Target="../slideLayouts/slideLayout879.xml"/><Relationship Id="rId7" Type="http://schemas.openxmlformats.org/officeDocument/2006/relationships/slideLayout" Target="../slideLayouts/slideLayout880.xml"/><Relationship Id="rId8" Type="http://schemas.openxmlformats.org/officeDocument/2006/relationships/slideLayout" Target="../slideLayouts/slideLayout881.xml"/><Relationship Id="rId9" Type="http://schemas.openxmlformats.org/officeDocument/2006/relationships/slideLayout" Target="../slideLayouts/slideLayout882.xml"/><Relationship Id="rId10" Type="http://schemas.openxmlformats.org/officeDocument/2006/relationships/slideLayout" Target="../slideLayouts/slideLayout883.xml"/><Relationship Id="rId11" Type="http://schemas.openxmlformats.org/officeDocument/2006/relationships/slideLayout" Target="../slideLayouts/slideLayout884.xml"/><Relationship Id="rId12" Type="http://schemas.openxmlformats.org/officeDocument/2006/relationships/slideLayout" Target="../slideLayouts/slideLayout885.xml"/><Relationship Id="rId13" Type="http://schemas.openxmlformats.org/officeDocument/2006/relationships/slideLayout" Target="../slideLayouts/slideLayout886.xml"/><Relationship Id="rId14" Type="http://schemas.openxmlformats.org/officeDocument/2006/relationships/slideLayout" Target="../slideLayouts/slideLayout887.xml"/><Relationship Id="rId15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89.xml"/><Relationship Id="rId5" Type="http://schemas.openxmlformats.org/officeDocument/2006/relationships/slideLayout" Target="../slideLayouts/slideLayout890.xml"/><Relationship Id="rId6" Type="http://schemas.openxmlformats.org/officeDocument/2006/relationships/slideLayout" Target="../slideLayouts/slideLayout891.xml"/><Relationship Id="rId7" Type="http://schemas.openxmlformats.org/officeDocument/2006/relationships/slideLayout" Target="../slideLayouts/slideLayout892.xml"/><Relationship Id="rId8" Type="http://schemas.openxmlformats.org/officeDocument/2006/relationships/slideLayout" Target="../slideLayouts/slideLayout893.xml"/><Relationship Id="rId9" Type="http://schemas.openxmlformats.org/officeDocument/2006/relationships/slideLayout" Target="../slideLayouts/slideLayout894.xml"/><Relationship Id="rId10" Type="http://schemas.openxmlformats.org/officeDocument/2006/relationships/slideLayout" Target="../slideLayouts/slideLayout895.xml"/><Relationship Id="rId11" Type="http://schemas.openxmlformats.org/officeDocument/2006/relationships/slideLayout" Target="../slideLayouts/slideLayout896.xml"/><Relationship Id="rId12" Type="http://schemas.openxmlformats.org/officeDocument/2006/relationships/slideLayout" Target="../slideLayouts/slideLayout897.xml"/><Relationship Id="rId13" Type="http://schemas.openxmlformats.org/officeDocument/2006/relationships/slideLayout" Target="../slideLayouts/slideLayout898.xml"/><Relationship Id="rId14" Type="http://schemas.openxmlformats.org/officeDocument/2006/relationships/slideLayout" Target="../slideLayouts/slideLayout899.xml"/><Relationship Id="rId15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01.xml"/><Relationship Id="rId5" Type="http://schemas.openxmlformats.org/officeDocument/2006/relationships/slideLayout" Target="../slideLayouts/slideLayout902.xml"/><Relationship Id="rId6" Type="http://schemas.openxmlformats.org/officeDocument/2006/relationships/slideLayout" Target="../slideLayouts/slideLayout903.xml"/><Relationship Id="rId7" Type="http://schemas.openxmlformats.org/officeDocument/2006/relationships/slideLayout" Target="../slideLayouts/slideLayout904.xml"/><Relationship Id="rId8" Type="http://schemas.openxmlformats.org/officeDocument/2006/relationships/slideLayout" Target="../slideLayouts/slideLayout905.xml"/><Relationship Id="rId9" Type="http://schemas.openxmlformats.org/officeDocument/2006/relationships/slideLayout" Target="../slideLayouts/slideLayout906.xml"/><Relationship Id="rId10" Type="http://schemas.openxmlformats.org/officeDocument/2006/relationships/slideLayout" Target="../slideLayouts/slideLayout907.xml"/><Relationship Id="rId11" Type="http://schemas.openxmlformats.org/officeDocument/2006/relationships/slideLayout" Target="../slideLayouts/slideLayout908.xml"/><Relationship Id="rId12" Type="http://schemas.openxmlformats.org/officeDocument/2006/relationships/slideLayout" Target="../slideLayouts/slideLayout909.xml"/><Relationship Id="rId13" Type="http://schemas.openxmlformats.org/officeDocument/2006/relationships/slideLayout" Target="../slideLayouts/slideLayout910.xml"/><Relationship Id="rId14" Type="http://schemas.openxmlformats.org/officeDocument/2006/relationships/slideLayout" Target="../slideLayouts/slideLayout911.xml"/><Relationship Id="rId15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13.xml"/><Relationship Id="rId5" Type="http://schemas.openxmlformats.org/officeDocument/2006/relationships/slideLayout" Target="../slideLayouts/slideLayout914.xml"/><Relationship Id="rId6" Type="http://schemas.openxmlformats.org/officeDocument/2006/relationships/slideLayout" Target="../slideLayouts/slideLayout915.xml"/><Relationship Id="rId7" Type="http://schemas.openxmlformats.org/officeDocument/2006/relationships/slideLayout" Target="../slideLayouts/slideLayout916.xml"/><Relationship Id="rId8" Type="http://schemas.openxmlformats.org/officeDocument/2006/relationships/slideLayout" Target="../slideLayouts/slideLayout917.xml"/><Relationship Id="rId9" Type="http://schemas.openxmlformats.org/officeDocument/2006/relationships/slideLayout" Target="../slideLayouts/slideLayout918.xml"/><Relationship Id="rId10" Type="http://schemas.openxmlformats.org/officeDocument/2006/relationships/slideLayout" Target="../slideLayouts/slideLayout919.xml"/><Relationship Id="rId11" Type="http://schemas.openxmlformats.org/officeDocument/2006/relationships/slideLayout" Target="../slideLayouts/slideLayout920.xml"/><Relationship Id="rId12" Type="http://schemas.openxmlformats.org/officeDocument/2006/relationships/slideLayout" Target="../slideLayouts/slideLayout921.xml"/><Relationship Id="rId13" Type="http://schemas.openxmlformats.org/officeDocument/2006/relationships/slideLayout" Target="../slideLayouts/slideLayout922.xml"/><Relationship Id="rId14" Type="http://schemas.openxmlformats.org/officeDocument/2006/relationships/slideLayout" Target="../slideLayouts/slideLayout923.xml"/><Relationship Id="rId15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25.xml"/><Relationship Id="rId5" Type="http://schemas.openxmlformats.org/officeDocument/2006/relationships/slideLayout" Target="../slideLayouts/slideLayout926.xml"/><Relationship Id="rId6" Type="http://schemas.openxmlformats.org/officeDocument/2006/relationships/slideLayout" Target="../slideLayouts/slideLayout927.xml"/><Relationship Id="rId7" Type="http://schemas.openxmlformats.org/officeDocument/2006/relationships/slideLayout" Target="../slideLayouts/slideLayout928.xml"/><Relationship Id="rId8" Type="http://schemas.openxmlformats.org/officeDocument/2006/relationships/slideLayout" Target="../slideLayouts/slideLayout929.xml"/><Relationship Id="rId9" Type="http://schemas.openxmlformats.org/officeDocument/2006/relationships/slideLayout" Target="../slideLayouts/slideLayout930.xml"/><Relationship Id="rId10" Type="http://schemas.openxmlformats.org/officeDocument/2006/relationships/slideLayout" Target="../slideLayouts/slideLayout931.xml"/><Relationship Id="rId11" Type="http://schemas.openxmlformats.org/officeDocument/2006/relationships/slideLayout" Target="../slideLayouts/slideLayout932.xml"/><Relationship Id="rId12" Type="http://schemas.openxmlformats.org/officeDocument/2006/relationships/slideLayout" Target="../slideLayouts/slideLayout933.xml"/><Relationship Id="rId13" Type="http://schemas.openxmlformats.org/officeDocument/2006/relationships/slideLayout" Target="../slideLayouts/slideLayout934.xml"/><Relationship Id="rId14" Type="http://schemas.openxmlformats.org/officeDocument/2006/relationships/slideLayout" Target="../slideLayouts/slideLayout935.xml"/><Relationship Id="rId15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37.xml"/><Relationship Id="rId5" Type="http://schemas.openxmlformats.org/officeDocument/2006/relationships/slideLayout" Target="../slideLayouts/slideLayout938.xml"/><Relationship Id="rId6" Type="http://schemas.openxmlformats.org/officeDocument/2006/relationships/slideLayout" Target="../slideLayouts/slideLayout939.xml"/><Relationship Id="rId7" Type="http://schemas.openxmlformats.org/officeDocument/2006/relationships/slideLayout" Target="../slideLayouts/slideLayout940.xml"/><Relationship Id="rId8" Type="http://schemas.openxmlformats.org/officeDocument/2006/relationships/slideLayout" Target="../slideLayouts/slideLayout941.xml"/><Relationship Id="rId9" Type="http://schemas.openxmlformats.org/officeDocument/2006/relationships/slideLayout" Target="../slideLayouts/slideLayout942.xml"/><Relationship Id="rId10" Type="http://schemas.openxmlformats.org/officeDocument/2006/relationships/slideLayout" Target="../slideLayouts/slideLayout943.xml"/><Relationship Id="rId11" Type="http://schemas.openxmlformats.org/officeDocument/2006/relationships/slideLayout" Target="../slideLayouts/slideLayout944.xml"/><Relationship Id="rId12" Type="http://schemas.openxmlformats.org/officeDocument/2006/relationships/slideLayout" Target="../slideLayouts/slideLayout945.xml"/><Relationship Id="rId13" Type="http://schemas.openxmlformats.org/officeDocument/2006/relationships/slideLayout" Target="../slideLayouts/slideLayout946.xml"/><Relationship Id="rId14" Type="http://schemas.openxmlformats.org/officeDocument/2006/relationships/slideLayout" Target="../slideLayouts/slideLayout947.xml"/><Relationship Id="rId15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49.xml"/><Relationship Id="rId5" Type="http://schemas.openxmlformats.org/officeDocument/2006/relationships/slideLayout" Target="../slideLayouts/slideLayout950.xml"/><Relationship Id="rId6" Type="http://schemas.openxmlformats.org/officeDocument/2006/relationships/slideLayout" Target="../slideLayouts/slideLayout951.xml"/><Relationship Id="rId7" Type="http://schemas.openxmlformats.org/officeDocument/2006/relationships/slideLayout" Target="../slideLayouts/slideLayout952.xml"/><Relationship Id="rId8" Type="http://schemas.openxmlformats.org/officeDocument/2006/relationships/slideLayout" Target="../slideLayouts/slideLayout953.xml"/><Relationship Id="rId9" Type="http://schemas.openxmlformats.org/officeDocument/2006/relationships/slideLayout" Target="../slideLayouts/slideLayout954.xml"/><Relationship Id="rId10" Type="http://schemas.openxmlformats.org/officeDocument/2006/relationships/slideLayout" Target="../slideLayouts/slideLayout955.xml"/><Relationship Id="rId11" Type="http://schemas.openxmlformats.org/officeDocument/2006/relationships/slideLayout" Target="../slideLayouts/slideLayout956.xml"/><Relationship Id="rId12" Type="http://schemas.openxmlformats.org/officeDocument/2006/relationships/slideLayout" Target="../slideLayouts/slideLayout957.xml"/><Relationship Id="rId13" Type="http://schemas.openxmlformats.org/officeDocument/2006/relationships/slideLayout" Target="../slideLayouts/slideLayout958.xml"/><Relationship Id="rId14" Type="http://schemas.openxmlformats.org/officeDocument/2006/relationships/slideLayout" Target="../slideLayouts/slideLayout959.xml"/><Relationship Id="rId15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61.xml"/><Relationship Id="rId5" Type="http://schemas.openxmlformats.org/officeDocument/2006/relationships/slideLayout" Target="../slideLayouts/slideLayout962.xml"/><Relationship Id="rId6" Type="http://schemas.openxmlformats.org/officeDocument/2006/relationships/slideLayout" Target="../slideLayouts/slideLayout963.xml"/><Relationship Id="rId7" Type="http://schemas.openxmlformats.org/officeDocument/2006/relationships/slideLayout" Target="../slideLayouts/slideLayout964.xml"/><Relationship Id="rId8" Type="http://schemas.openxmlformats.org/officeDocument/2006/relationships/slideLayout" Target="../slideLayouts/slideLayout965.xml"/><Relationship Id="rId9" Type="http://schemas.openxmlformats.org/officeDocument/2006/relationships/slideLayout" Target="../slideLayouts/slideLayout966.xml"/><Relationship Id="rId10" Type="http://schemas.openxmlformats.org/officeDocument/2006/relationships/slideLayout" Target="../slideLayouts/slideLayout967.xml"/><Relationship Id="rId11" Type="http://schemas.openxmlformats.org/officeDocument/2006/relationships/slideLayout" Target="../slideLayouts/slideLayout968.xml"/><Relationship Id="rId12" Type="http://schemas.openxmlformats.org/officeDocument/2006/relationships/slideLayout" Target="../slideLayouts/slideLayout969.xml"/><Relationship Id="rId13" Type="http://schemas.openxmlformats.org/officeDocument/2006/relationships/slideLayout" Target="../slideLayouts/slideLayout970.xml"/><Relationship Id="rId14" Type="http://schemas.openxmlformats.org/officeDocument/2006/relationships/slideLayout" Target="../slideLayouts/slideLayout971.xml"/><Relationship Id="rId15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3.xml"/><Relationship Id="rId5" Type="http://schemas.openxmlformats.org/officeDocument/2006/relationships/slideLayout" Target="../slideLayouts/slideLayout974.xml"/><Relationship Id="rId6" Type="http://schemas.openxmlformats.org/officeDocument/2006/relationships/slideLayout" Target="../slideLayouts/slideLayout975.xml"/><Relationship Id="rId7" Type="http://schemas.openxmlformats.org/officeDocument/2006/relationships/slideLayout" Target="../slideLayouts/slideLayout976.xml"/><Relationship Id="rId8" Type="http://schemas.openxmlformats.org/officeDocument/2006/relationships/slideLayout" Target="../slideLayouts/slideLayout977.xml"/><Relationship Id="rId9" Type="http://schemas.openxmlformats.org/officeDocument/2006/relationships/slideLayout" Target="../slideLayouts/slideLayout978.xml"/><Relationship Id="rId10" Type="http://schemas.openxmlformats.org/officeDocument/2006/relationships/slideLayout" Target="../slideLayouts/slideLayout979.xml"/><Relationship Id="rId11" Type="http://schemas.openxmlformats.org/officeDocument/2006/relationships/slideLayout" Target="../slideLayouts/slideLayout980.xml"/><Relationship Id="rId12" Type="http://schemas.openxmlformats.org/officeDocument/2006/relationships/slideLayout" Target="../slideLayouts/slideLayout981.xml"/><Relationship Id="rId13" Type="http://schemas.openxmlformats.org/officeDocument/2006/relationships/slideLayout" Target="../slideLayouts/slideLayout982.xml"/><Relationship Id="rId14" Type="http://schemas.openxmlformats.org/officeDocument/2006/relationships/slideLayout" Target="../slideLayouts/slideLayout983.xml"/><Relationship Id="rId15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85.xml"/><Relationship Id="rId5" Type="http://schemas.openxmlformats.org/officeDocument/2006/relationships/slideLayout" Target="../slideLayouts/slideLayout986.xml"/><Relationship Id="rId6" Type="http://schemas.openxmlformats.org/officeDocument/2006/relationships/slideLayout" Target="../slideLayouts/slideLayout987.xml"/><Relationship Id="rId7" Type="http://schemas.openxmlformats.org/officeDocument/2006/relationships/slideLayout" Target="../slideLayouts/slideLayout988.xml"/><Relationship Id="rId8" Type="http://schemas.openxmlformats.org/officeDocument/2006/relationships/slideLayout" Target="../slideLayouts/slideLayout989.xml"/><Relationship Id="rId9" Type="http://schemas.openxmlformats.org/officeDocument/2006/relationships/slideLayout" Target="../slideLayouts/slideLayout990.xml"/><Relationship Id="rId10" Type="http://schemas.openxmlformats.org/officeDocument/2006/relationships/slideLayout" Target="../slideLayouts/slideLayout991.xml"/><Relationship Id="rId11" Type="http://schemas.openxmlformats.org/officeDocument/2006/relationships/slideLayout" Target="../slideLayouts/slideLayout992.xml"/><Relationship Id="rId12" Type="http://schemas.openxmlformats.org/officeDocument/2006/relationships/slideLayout" Target="../slideLayouts/slideLayout993.xml"/><Relationship Id="rId13" Type="http://schemas.openxmlformats.org/officeDocument/2006/relationships/slideLayout" Target="../slideLayouts/slideLayout994.xml"/><Relationship Id="rId14" Type="http://schemas.openxmlformats.org/officeDocument/2006/relationships/slideLayout" Target="../slideLayouts/slideLayout995.xml"/><Relationship Id="rId15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97.xml"/><Relationship Id="rId5" Type="http://schemas.openxmlformats.org/officeDocument/2006/relationships/slideLayout" Target="../slideLayouts/slideLayout998.xml"/><Relationship Id="rId6" Type="http://schemas.openxmlformats.org/officeDocument/2006/relationships/slideLayout" Target="../slideLayouts/slideLayout999.xml"/><Relationship Id="rId7" Type="http://schemas.openxmlformats.org/officeDocument/2006/relationships/slideLayout" Target="../slideLayouts/slideLayout1000.xml"/><Relationship Id="rId8" Type="http://schemas.openxmlformats.org/officeDocument/2006/relationships/slideLayout" Target="../slideLayouts/slideLayout1001.xml"/><Relationship Id="rId9" Type="http://schemas.openxmlformats.org/officeDocument/2006/relationships/slideLayout" Target="../slideLayouts/slideLayout1002.xml"/><Relationship Id="rId10" Type="http://schemas.openxmlformats.org/officeDocument/2006/relationships/slideLayout" Target="../slideLayouts/slideLayout1003.xml"/><Relationship Id="rId11" Type="http://schemas.openxmlformats.org/officeDocument/2006/relationships/slideLayout" Target="../slideLayouts/slideLayout1004.xml"/><Relationship Id="rId12" Type="http://schemas.openxmlformats.org/officeDocument/2006/relationships/slideLayout" Target="../slideLayouts/slideLayout1005.xml"/><Relationship Id="rId13" Type="http://schemas.openxmlformats.org/officeDocument/2006/relationships/slideLayout" Target="../slideLayouts/slideLayout1006.xml"/><Relationship Id="rId14" Type="http://schemas.openxmlformats.org/officeDocument/2006/relationships/slideLayout" Target="../slideLayouts/slideLayout1007.xml"/><Relationship Id="rId15" Type="http://schemas.openxmlformats.org/officeDocument/2006/relationships/slideLayout" Target="../slideLayouts/slideLayout100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117D-670B-440E-BA73-AC56E3639F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F71B-1037-4328-AC71-7E1894B4F4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4054-09D5-444B-A4F1-BB96D7B97A9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1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8D8D-0AD9-4EF8-B215-80D9B9C8D86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040E-17F4-44A6-ABC0-91E1D44F6BA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A099-AD17-4BC1-AA45-74730882F8F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4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52C9-7ABA-49EF-B8C2-2AF8BF75B2E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sldNum" idx="2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5DAB-CEB1-412B-98D3-C85A9284C8C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3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5A6A-63AD-4B6B-B16B-49F663E44BF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sldNum" idx="2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DD2B-5BC8-499B-AB0D-ED7695CD7F7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15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6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17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818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1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22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823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5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826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828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829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2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834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2B12-3E42-4F49-B759-71FB48A19D4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7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F74B-13DF-4F4C-99E2-8CF30CC976E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2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95E1-55DA-4FE3-A9BA-EADA18BC592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6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sldNum" idx="2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CC43-6B5A-4E0F-AF75-319D45E017A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sldNum" idx="2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E8FB-2EA6-4546-A0AE-A82DB1AB14D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5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sldNum" idx="2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73F4-B59C-44A5-AD51-02CD2EA0B79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9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sldNum" idx="3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E67B-F446-4907-AACD-FD6BB764A27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3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4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sldNum" idx="3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B997-D0B3-4A5E-87D3-4724D761D6B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8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sldNum" idx="3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447D-9E36-4912-9C54-E332384BD8A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sldNum" idx="3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FD49-299A-4AE7-9E30-6AB2047FAF3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sldNum" idx="3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F24D-8448-4395-A98D-B51C3A2B19D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1329-92E9-4227-8F81-683F507BF23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3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314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5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316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317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18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19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20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321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322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3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324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325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6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327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328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9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0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1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2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3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3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7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37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sldNum" idx="3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0CD6-B377-4F07-9AD1-0841D28EC54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 type="sldNum" idx="3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E08F-B6D9-48B4-A156-E183DDE1B1B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 type="sldNum" idx="3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7CEF-E147-4DE7-B4F4-610EF1B1BB7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sldNum" idx="3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3CCA-39A6-4A4E-B612-BBBD9504472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 type="sldNum" idx="3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6EFC-D446-46F7-AC9E-57D7056DBC7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sldNum" idx="4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924F-8FA5-410D-BAB4-1B75C62F488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Num" idx="4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2F4E-09C9-4659-9D33-B35C355F0C6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4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5DF0-C8D9-4237-BC93-F0952C43515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 type="sldNum" idx="4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5E0B-EDF9-422F-A90F-F82832A45D6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E217-DD76-4AC2-B0C6-0C6E476DE7F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 type="sldNum" idx="4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0E6E-ADDA-4BF2-B80B-9286361E40C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2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813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14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815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16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7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18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19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20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821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2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23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24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5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26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827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8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9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0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1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32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83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7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7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 type="sldNum" idx="4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29ED-5752-4C5D-86FE-BE3E25DC06B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2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 type="sldNum" idx="4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D29F-211C-4A44-9663-B2F230E45F6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sldNum" idx="4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1D01-8104-423F-BC24-1064618F946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0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sldNum" idx="4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694B-2076-4F25-A46C-718FC8E468C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4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5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 type="sldNum" idx="4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C08E-A9E1-47DB-A8D2-02CCA0130FC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9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 type="sldNum" idx="5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2262-B932-4879-A341-1E0FCD5C34E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4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 type="sldNum" idx="5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0FD8-E0F6-4532-8757-3438AFA7C98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8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8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 type="sldNum" idx="5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8446-7AB9-4E2D-843F-C725EFC8BF2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40DD-7B9B-441A-AF80-A7F41CD9AC2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2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2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sldNum" idx="5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59D2-3AD4-43C4-91EA-114B8CEA201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7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sldNum" idx="5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A37F-6BC9-4F80-8EA0-8E3F5095308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1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312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3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314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315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6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7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8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319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320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1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322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323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4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325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326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7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8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9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0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331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33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 type="sldNum" idx="5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6CD0-9BBC-4A5E-A2C5-C1C1E06904E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1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sldNum" idx="5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91C6-7AFB-4ABA-A0A6-85146B51523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6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6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 type="sldNum" idx="5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9E11-7746-4573-ADAD-00E06A5A5C5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0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 type="sldNum" idx="5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9AFE-2801-4675-B34B-A704DA375E0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4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5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 type="sldNum" idx="5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92DC-602D-4DBF-831D-2926ECB4DAF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9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 type="sldNum" idx="6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E9DC-24B5-40EA-BBAF-371762AD0DD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3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3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 type="sldNum" idx="6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7BEB-328F-4C5F-9B48-6D6F7D6C17E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A4EE-9EC3-4CF8-80EF-2242035989B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7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 type="sldNum" idx="6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99F1-8ED5-4F02-932F-A537230F3D9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2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2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 type="sldNum" idx="6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1279-2696-4693-A93F-9A60009E5CE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6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 type="sldNum" idx="6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E6D0-C2D9-4AF0-AA7C-1C37F18E5EB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4"/>
    <p:sldLayoutId id="2147484443" r:id="rId5"/>
    <p:sldLayoutId id="2147484444" r:id="rId6"/>
    <p:sldLayoutId id="2147484445" r:id="rId7"/>
    <p:sldLayoutId id="2147484446" r:id="rId8"/>
    <p:sldLayoutId id="2147484447" r:id="rId9"/>
    <p:sldLayoutId id="2147484448" r:id="rId10"/>
    <p:sldLayoutId id="2147484449" r:id="rId11"/>
    <p:sldLayoutId id="2147484450" r:id="rId12"/>
    <p:sldLayoutId id="2147484451" r:id="rId13"/>
    <p:sldLayoutId id="2147484452" r:id="rId14"/>
    <p:sldLayoutId id="2147484453" r:id="rId15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811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1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81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81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6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818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819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0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82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82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82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82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6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7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8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9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83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8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sldNum" idx="6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FF2C-1480-4E29-AFB1-AAA63A7168B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1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1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 type="sldNum" idx="6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95A3-B489-410D-964A-D8F9270EFE7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4"/>
    <p:sldLayoutId id="2147484482" r:id="rId5"/>
    <p:sldLayoutId id="2147484483" r:id="rId6"/>
    <p:sldLayoutId id="2147484484" r:id="rId7"/>
    <p:sldLayoutId id="2147484485" r:id="rId8"/>
    <p:sldLayoutId id="2147484486" r:id="rId9"/>
    <p:sldLayoutId id="2147484487" r:id="rId10"/>
    <p:sldLayoutId id="2147484488" r:id="rId11"/>
    <p:sldLayoutId id="2147484489" r:id="rId12"/>
    <p:sldLayoutId id="2147484490" r:id="rId13"/>
    <p:sldLayoutId id="2147484491" r:id="rId14"/>
    <p:sldLayoutId id="2147484492" r:id="rId15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5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6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 type="sldNum" idx="6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9FF3-FBF0-468C-9461-DADBF498347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4"/>
    <p:sldLayoutId id="2147484495" r:id="rId5"/>
    <p:sldLayoutId id="2147484496" r:id="rId6"/>
    <p:sldLayoutId id="2147484497" r:id="rId7"/>
    <p:sldLayoutId id="2147484498" r:id="rId8"/>
    <p:sldLayoutId id="2147484499" r:id="rId9"/>
    <p:sldLayoutId id="2147484500" r:id="rId10"/>
    <p:sldLayoutId id="2147484501" r:id="rId11"/>
    <p:sldLayoutId id="2147484502" r:id="rId12"/>
    <p:sldLayoutId id="2147484503" r:id="rId13"/>
    <p:sldLayoutId id="2147484504" r:id="rId14"/>
    <p:sldLayoutId id="2147484505" r:id="rId15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0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0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0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 type="sldNum" idx="6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EC9D-9535-45BD-9A25-69360968612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4"/>
    <p:sldLayoutId id="2147484508" r:id="rId5"/>
    <p:sldLayoutId id="2147484509" r:id="rId6"/>
    <p:sldLayoutId id="2147484510" r:id="rId7"/>
    <p:sldLayoutId id="2147484511" r:id="rId8"/>
    <p:sldLayoutId id="2147484512" r:id="rId9"/>
    <p:sldLayoutId id="2147484513" r:id="rId10"/>
    <p:sldLayoutId id="2147484514" r:id="rId11"/>
    <p:sldLayoutId id="2147484515" r:id="rId12"/>
    <p:sldLayoutId id="2147484516" r:id="rId13"/>
    <p:sldLayoutId id="2147484517" r:id="rId14"/>
    <p:sldLayoutId id="2147484518" r:id="rId15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 type="sldNum" idx="6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D8FA-D695-4C7E-9927-5DA4683CD5D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4"/>
    <p:sldLayoutId id="2147484521" r:id="rId5"/>
    <p:sldLayoutId id="2147484522" r:id="rId6"/>
    <p:sldLayoutId id="2147484523" r:id="rId7"/>
    <p:sldLayoutId id="2147484524" r:id="rId8"/>
    <p:sldLayoutId id="2147484525" r:id="rId9"/>
    <p:sldLayoutId id="2147484526" r:id="rId10"/>
    <p:sldLayoutId id="2147484527" r:id="rId11"/>
    <p:sldLayoutId id="2147484528" r:id="rId12"/>
    <p:sldLayoutId id="2147484529" r:id="rId13"/>
    <p:sldLayoutId id="2147484530" r:id="rId14"/>
    <p:sldLayoutId id="2147484531" r:id="rId15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9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9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 type="sldNum" idx="7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8AF5-DC69-4AC9-9A4B-0A2002427E2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E1F4-9A53-4F2F-A3C9-15233B8D607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3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3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 type="sldNum" idx="7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194F-53FE-4450-B565-4F690FB8A41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4"/>
    <p:sldLayoutId id="2147484547" r:id="rId5"/>
    <p:sldLayoutId id="2147484548" r:id="rId6"/>
    <p:sldLayoutId id="2147484549" r:id="rId7"/>
    <p:sldLayoutId id="2147484550" r:id="rId8"/>
    <p:sldLayoutId id="2147484551" r:id="rId9"/>
    <p:sldLayoutId id="2147484552" r:id="rId10"/>
    <p:sldLayoutId id="2147484553" r:id="rId11"/>
    <p:sldLayoutId id="2147484554" r:id="rId12"/>
    <p:sldLayoutId id="2147484555" r:id="rId13"/>
    <p:sldLayoutId id="2147484556" r:id="rId14"/>
    <p:sldLayoutId id="2147484557" r:id="rId15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7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8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8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 type="sldNum" idx="7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B782-72A6-40B0-9BFC-23AEF527BC2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2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2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 type="sldNum" idx="7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814A-C6A1-4054-9783-5DCD96F9F61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6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7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2" name="PlaceHolder 3"/>
          <p:cNvSpPr>
            <a:spLocks noGrp="1"/>
          </p:cNvSpPr>
          <p:nvPr>
            <p:ph type="sldNum" idx="7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C32F-5BB6-4D6A-B5C1-A23B55455CE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9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310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1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12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3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4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15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16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17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318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9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20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21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2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323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24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5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6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7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8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29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4"/>
    <p:sldLayoutId id="2147484599" r:id="rId5"/>
    <p:sldLayoutId id="2147484600" r:id="rId6"/>
    <p:sldLayoutId id="2147484601" r:id="rId7"/>
    <p:sldLayoutId id="2147484602" r:id="rId8"/>
    <p:sldLayoutId id="2147484603" r:id="rId9"/>
    <p:sldLayoutId id="2147484604" r:id="rId10"/>
    <p:sldLayoutId id="2147484605" r:id="rId11"/>
    <p:sldLayoutId id="2147484606" r:id="rId12"/>
    <p:sldLayoutId id="2147484607" r:id="rId13"/>
    <p:sldLayoutId id="2147484608" r:id="rId14"/>
    <p:sldLayoutId id="2147484609" r:id="rId15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3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5" name="PlaceHolder 3"/>
          <p:cNvSpPr>
            <a:spLocks noGrp="1"/>
          </p:cNvSpPr>
          <p:nvPr>
            <p:ph type="sldNum" idx="7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BF35-68B9-4253-99B0-91F087D8737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4"/>
    <p:sldLayoutId id="2147484612" r:id="rId5"/>
    <p:sldLayoutId id="2147484613" r:id="rId6"/>
    <p:sldLayoutId id="2147484614" r:id="rId7"/>
    <p:sldLayoutId id="2147484615" r:id="rId8"/>
    <p:sldLayoutId id="2147484616" r:id="rId9"/>
    <p:sldLayoutId id="2147484617" r:id="rId10"/>
    <p:sldLayoutId id="2147484618" r:id="rId11"/>
    <p:sldLayoutId id="2147484619" r:id="rId12"/>
    <p:sldLayoutId id="2147484620" r:id="rId13"/>
    <p:sldLayoutId id="2147484621" r:id="rId14"/>
    <p:sldLayoutId id="2147484622" r:id="rId15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1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1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 type="sldNum" idx="7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A4C0-6DF3-444A-978E-436A0EC39AA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4"/>
    <p:sldLayoutId id="2147484625" r:id="rId5"/>
    <p:sldLayoutId id="2147484626" r:id="rId6"/>
    <p:sldLayoutId id="2147484627" r:id="rId7"/>
    <p:sldLayoutId id="2147484628" r:id="rId8"/>
    <p:sldLayoutId id="2147484629" r:id="rId9"/>
    <p:sldLayoutId id="2147484630" r:id="rId10"/>
    <p:sldLayoutId id="2147484631" r:id="rId11"/>
    <p:sldLayoutId id="2147484632" r:id="rId12"/>
    <p:sldLayoutId id="2147484633" r:id="rId13"/>
    <p:sldLayoutId id="2147484634" r:id="rId14"/>
    <p:sldLayoutId id="2147484635" r:id="rId15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5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6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6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 type="sldNum" idx="7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87BB-770C-43F8-A265-124B3087F9A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4"/>
    <p:sldLayoutId id="2147484638" r:id="rId5"/>
    <p:sldLayoutId id="2147484639" r:id="rId6"/>
    <p:sldLayoutId id="2147484640" r:id="rId7"/>
    <p:sldLayoutId id="2147484641" r:id="rId8"/>
    <p:sldLayoutId id="2147484642" r:id="rId9"/>
    <p:sldLayoutId id="2147484643" r:id="rId10"/>
    <p:sldLayoutId id="2147484644" r:id="rId11"/>
    <p:sldLayoutId id="2147484645" r:id="rId12"/>
    <p:sldLayoutId id="2147484646" r:id="rId13"/>
    <p:sldLayoutId id="2147484647" r:id="rId14"/>
    <p:sldLayoutId id="2147484648" r:id="rId15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0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0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0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 type="sldNum" idx="7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841D-69EA-44D9-AD15-2195CBC3F91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4"/>
    <p:sldLayoutId id="2147484651" r:id="rId5"/>
    <p:sldLayoutId id="2147484652" r:id="rId6"/>
    <p:sldLayoutId id="2147484653" r:id="rId7"/>
    <p:sldLayoutId id="2147484654" r:id="rId8"/>
    <p:sldLayoutId id="2147484655" r:id="rId9"/>
    <p:sldLayoutId id="2147484656" r:id="rId10"/>
    <p:sldLayoutId id="2147484657" r:id="rId11"/>
    <p:sldLayoutId id="2147484658" r:id="rId12"/>
    <p:sldLayoutId id="2147484659" r:id="rId13"/>
    <p:sldLayoutId id="2147484660" r:id="rId14"/>
    <p:sldLayoutId id="2147484661" r:id="rId15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4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 type="sldNum" idx="7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25E2-4817-46A7-B0C3-5E6ADA9321D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4"/>
    <p:sldLayoutId id="2147484664" r:id="rId5"/>
    <p:sldLayoutId id="2147484665" r:id="rId6"/>
    <p:sldLayoutId id="2147484666" r:id="rId7"/>
    <p:sldLayoutId id="2147484667" r:id="rId8"/>
    <p:sldLayoutId id="2147484668" r:id="rId9"/>
    <p:sldLayoutId id="2147484669" r:id="rId10"/>
    <p:sldLayoutId id="2147484670" r:id="rId11"/>
    <p:sldLayoutId id="2147484671" r:id="rId12"/>
    <p:sldLayoutId id="2147484672" r:id="rId13"/>
    <p:sldLayoutId id="2147484673" r:id="rId14"/>
    <p:sldLayoutId id="2147484674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1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1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1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2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2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2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8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 type="sldNum" idx="8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14F0-076D-46AE-A382-3C26A3D22E6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4"/>
    <p:sldLayoutId id="2147484677" r:id="rId5"/>
    <p:sldLayoutId id="2147484678" r:id="rId6"/>
    <p:sldLayoutId id="2147484679" r:id="rId7"/>
    <p:sldLayoutId id="2147484680" r:id="rId8"/>
    <p:sldLayoutId id="2147484681" r:id="rId9"/>
    <p:sldLayoutId id="2147484682" r:id="rId10"/>
    <p:sldLayoutId id="2147484683" r:id="rId11"/>
    <p:sldLayoutId id="2147484684" r:id="rId12"/>
    <p:sldLayoutId id="2147484685" r:id="rId13"/>
    <p:sldLayoutId id="2147484686" r:id="rId14"/>
    <p:sldLayoutId id="2147484687" r:id="rId15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3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3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3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 type="sldNum" idx="8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2335-1178-4387-ABD4-FC4B81B0C3B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4"/>
    <p:sldLayoutId id="2147484690" r:id="rId5"/>
    <p:sldLayoutId id="2147484691" r:id="rId6"/>
    <p:sldLayoutId id="2147484692" r:id="rId7"/>
    <p:sldLayoutId id="2147484693" r:id="rId8"/>
    <p:sldLayoutId id="2147484694" r:id="rId9"/>
    <p:sldLayoutId id="2147484695" r:id="rId10"/>
    <p:sldLayoutId id="2147484696" r:id="rId11"/>
    <p:sldLayoutId id="2147484697" r:id="rId12"/>
    <p:sldLayoutId id="2147484698" r:id="rId13"/>
    <p:sldLayoutId id="2147484699" r:id="rId14"/>
    <p:sldLayoutId id="2147484700" r:id="rId15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7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8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 type="sldNum" idx="8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740E-833B-4791-99FB-FB3805083EC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4"/>
    <p:sldLayoutId id="2147484703" r:id="rId5"/>
    <p:sldLayoutId id="2147484704" r:id="rId6"/>
    <p:sldLayoutId id="2147484705" r:id="rId7"/>
    <p:sldLayoutId id="2147484706" r:id="rId8"/>
    <p:sldLayoutId id="2147484707" r:id="rId9"/>
    <p:sldLayoutId id="2147484708" r:id="rId10"/>
    <p:sldLayoutId id="2147484709" r:id="rId11"/>
    <p:sldLayoutId id="2147484710" r:id="rId12"/>
    <p:sldLayoutId id="2147484711" r:id="rId13"/>
    <p:sldLayoutId id="2147484712" r:id="rId14"/>
    <p:sldLayoutId id="2147484713" r:id="rId15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2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2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 type="sldNum" idx="8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6B7A-2C41-4A4F-96C9-ADC4669DB1E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4"/>
    <p:sldLayoutId id="2147484716" r:id="rId5"/>
    <p:sldLayoutId id="2147484717" r:id="rId6"/>
    <p:sldLayoutId id="2147484718" r:id="rId7"/>
    <p:sldLayoutId id="2147484719" r:id="rId8"/>
    <p:sldLayoutId id="2147484720" r:id="rId9"/>
    <p:sldLayoutId id="2147484721" r:id="rId10"/>
    <p:sldLayoutId id="2147484722" r:id="rId11"/>
    <p:sldLayoutId id="2147484723" r:id="rId12"/>
    <p:sldLayoutId id="2147484724" r:id="rId13"/>
    <p:sldLayoutId id="2147484725" r:id="rId14"/>
    <p:sldLayoutId id="2147484726" r:id="rId15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6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6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 type="sldNum" idx="8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4F07-766E-4696-8568-14F1C82398D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4"/>
    <p:sldLayoutId id="2147484729" r:id="rId5"/>
    <p:sldLayoutId id="2147484730" r:id="rId6"/>
    <p:sldLayoutId id="2147484731" r:id="rId7"/>
    <p:sldLayoutId id="2147484732" r:id="rId8"/>
    <p:sldLayoutId id="2147484733" r:id="rId9"/>
    <p:sldLayoutId id="2147484734" r:id="rId10"/>
    <p:sldLayoutId id="2147484735" r:id="rId11"/>
    <p:sldLayoutId id="2147484736" r:id="rId12"/>
    <p:sldLayoutId id="2147484737" r:id="rId13"/>
    <p:sldLayoutId id="2147484738" r:id="rId14"/>
    <p:sldLayoutId id="2147484739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52E7-0D7F-4F71-A4FF-A200A213F95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75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2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619272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三章　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神经肌肉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9" name="PlaceHolder 2"/>
          <p:cNvSpPr>
            <a:spLocks noGrp="1"/>
          </p:cNvSpPr>
          <p:nvPr>
            <p:ph type="subTitle"/>
          </p:nvPr>
        </p:nvSpPr>
        <p:spPr>
          <a:xfrm>
            <a:off x="755640" y="5445000"/>
            <a:ext cx="671040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延边大学护理学院     崔文香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脑脊液测定正常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859" name="对象 2"/>
          <p:cNvGraphicFramePr/>
          <p:nvPr/>
        </p:nvGraphicFramePr>
        <p:xfrm>
          <a:off x="179280" y="1268280"/>
          <a:ext cx="8591760" cy="54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0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591760" cy="54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2" name=""/>
          <p:cNvSpPr txBox="1"/>
          <p:nvPr/>
        </p:nvSpPr>
        <p:spPr>
          <a:xfrm>
            <a:off x="468000" y="162864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胚胎时期神经细胞的分化和繁殖以惊人的速度进行，每分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500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；胚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月时，神经细胞数目达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亿个，之后不再有神经细胞数量的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婴儿期，各种刺激引起的神经冲动传导缓慢，且易于泛化，不易形成兴奋灶，因而婴儿易产生疲劳而进入睡眠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4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生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角膜反射、瞳孔对光反射、结膜反射及吞咽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以后逐渐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觅食反射、拥抱反射、握持反射、吸吮反射，迈步反射及颈肢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不存在，以后逐渐出现并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腹壁反射、提睾反射及腱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6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病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包括巴宾斯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abinski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戈登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ordon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奥苯海姆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ppenhei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岁以内可为阳性，个别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阳性可为生理反应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若单侧阳性，结合临床考虑是否为病理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8" name=""/>
          <p:cNvSpPr txBox="1"/>
          <p:nvPr/>
        </p:nvSpPr>
        <p:spPr>
          <a:xfrm>
            <a:off x="1907640" y="2997000"/>
            <a:ext cx="5543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节 化脓性脑膜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4712-9E7F-48D5-8D43-7AE1083CB3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各种化脓性细菌感染引起的急性脑膜炎症，是小儿、尤其婴幼儿时期常见的中枢神经系统感染性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菌的侵袭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E69F-6BB3-4E4A-A96A-AAC3415AF3B2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5" name="Oval 5"/>
          <p:cNvSpPr/>
          <p:nvPr/>
        </p:nvSpPr>
        <p:spPr>
          <a:xfrm>
            <a:off x="3276720" y="2133720"/>
            <a:ext cx="2590560" cy="10792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致病菌的侵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6" name="Rectangle 11"/>
          <p:cNvSpPr/>
          <p:nvPr/>
        </p:nvSpPr>
        <p:spPr>
          <a:xfrm>
            <a:off x="43488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0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7" name="Rectangle 11"/>
          <p:cNvSpPr/>
          <p:nvPr/>
        </p:nvSpPr>
        <p:spPr>
          <a:xfrm>
            <a:off x="6084720" y="3800520"/>
            <a:ext cx="269748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8" name="Rectangle 11"/>
          <p:cNvSpPr/>
          <p:nvPr/>
        </p:nvSpPr>
        <p:spPr>
          <a:xfrm>
            <a:off x="3276720" y="38005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9" name="Rectangle 11"/>
          <p:cNvSpPr/>
          <p:nvPr/>
        </p:nvSpPr>
        <p:spPr>
          <a:xfrm>
            <a:off x="43488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肠道革兰阴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金黄色葡萄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0" name="Rectangle 11"/>
          <p:cNvSpPr/>
          <p:nvPr/>
        </p:nvSpPr>
        <p:spPr>
          <a:xfrm>
            <a:off x="32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流感嗜血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1" name="Rectangle 11"/>
          <p:cNvSpPr/>
          <p:nvPr/>
        </p:nvSpPr>
        <p:spPr>
          <a:xfrm>
            <a:off x="6084720" y="5084640"/>
            <a:ext cx="269748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脑膜炎双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肺炎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2" name="Line 3"/>
          <p:cNvSpPr/>
          <p:nvPr/>
        </p:nvSpPr>
        <p:spPr>
          <a:xfrm flipH="1">
            <a:off x="241092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3" name="Line 3"/>
          <p:cNvSpPr/>
          <p:nvPr/>
        </p:nvSpPr>
        <p:spPr>
          <a:xfrm>
            <a:off x="4572000" y="3357720"/>
            <a:ext cx="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4" name="Line 3"/>
          <p:cNvSpPr/>
          <p:nvPr/>
        </p:nvSpPr>
        <p:spPr>
          <a:xfrm>
            <a:off x="6300720" y="3141720"/>
            <a:ext cx="43200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5" name="Line 3"/>
          <p:cNvSpPr/>
          <p:nvPr/>
        </p:nvSpPr>
        <p:spPr>
          <a:xfrm>
            <a:off x="197964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6" name="Line 3"/>
          <p:cNvSpPr/>
          <p:nvPr/>
        </p:nvSpPr>
        <p:spPr>
          <a:xfrm>
            <a:off x="457200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7" name="Line 3"/>
          <p:cNvSpPr/>
          <p:nvPr/>
        </p:nvSpPr>
        <p:spPr>
          <a:xfrm>
            <a:off x="7380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机体免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3B0F-4ED4-4BB5-AC6E-BFC98D167FF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1" name="Oval 5"/>
          <p:cNvSpPr/>
          <p:nvPr/>
        </p:nvSpPr>
        <p:spPr>
          <a:xfrm>
            <a:off x="3419640" y="2205000"/>
            <a:ext cx="2286000" cy="10666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机体免疫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2" name="Rectangle 11"/>
          <p:cNvSpPr/>
          <p:nvPr/>
        </p:nvSpPr>
        <p:spPr>
          <a:xfrm>
            <a:off x="111600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M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3" name="Rectangle 11"/>
          <p:cNvSpPr/>
          <p:nvPr/>
        </p:nvSpPr>
        <p:spPr>
          <a:xfrm>
            <a:off x="507672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A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4" name="Rectangle 11"/>
          <p:cNvSpPr/>
          <p:nvPr/>
        </p:nvSpPr>
        <p:spPr>
          <a:xfrm>
            <a:off x="115416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大肠埃希菌败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5" name="Rectangle 11"/>
          <p:cNvSpPr/>
          <p:nvPr/>
        </p:nvSpPr>
        <p:spPr>
          <a:xfrm>
            <a:off x="50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呼吸道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胃肠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6" name="Line 3"/>
          <p:cNvSpPr/>
          <p:nvPr/>
        </p:nvSpPr>
        <p:spPr>
          <a:xfrm flipH="1">
            <a:off x="277128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7" name="Line 3"/>
          <p:cNvSpPr/>
          <p:nvPr/>
        </p:nvSpPr>
        <p:spPr>
          <a:xfrm>
            <a:off x="5867280" y="3141720"/>
            <a:ext cx="43344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8" name="Line 3"/>
          <p:cNvSpPr/>
          <p:nvPr/>
        </p:nvSpPr>
        <p:spPr>
          <a:xfrm>
            <a:off x="2484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9" name="Line 3"/>
          <p:cNvSpPr/>
          <p:nvPr/>
        </p:nvSpPr>
        <p:spPr>
          <a:xfrm>
            <a:off x="673272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D06D-C191-48DF-A12D-B4B29461DE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826560" y="285480"/>
            <a:ext cx="8317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</a:t>
            </a:r>
            <a:r>
              <a:rPr b="0" i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致病菌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2" name="Text Box 30"/>
          <p:cNvSpPr/>
          <p:nvPr/>
        </p:nvSpPr>
        <p:spPr>
          <a:xfrm>
            <a:off x="6300720" y="3573360"/>
            <a:ext cx="3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3" name="图片 1" descr=""/>
          <p:cNvPicPr/>
          <p:nvPr/>
        </p:nvPicPr>
        <p:blipFill>
          <a:blip r:embed="rId1"/>
          <a:stretch/>
        </p:blipFill>
        <p:spPr>
          <a:xfrm>
            <a:off x="588960" y="1844640"/>
            <a:ext cx="8132760" cy="4249800"/>
          </a:xfrm>
          <a:prstGeom prst="rect">
            <a:avLst/>
          </a:prstGeom>
          <a:ln w="0">
            <a:noFill/>
          </a:ln>
        </p:spPr>
      </p:pic>
      <p:sp>
        <p:nvSpPr>
          <p:cNvPr id="3904" name="AutoShape 5"/>
          <p:cNvSpPr/>
          <p:nvPr/>
        </p:nvSpPr>
        <p:spPr>
          <a:xfrm>
            <a:off x="2411280" y="2254320"/>
            <a:ext cx="432000" cy="3095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5" name="图片 2" descr=""/>
          <p:cNvPicPr/>
          <p:nvPr/>
        </p:nvPicPr>
        <p:blipFill>
          <a:blip r:embed="rId2"/>
          <a:stretch/>
        </p:blipFill>
        <p:spPr>
          <a:xfrm>
            <a:off x="1284120" y="3706920"/>
            <a:ext cx="48132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典型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8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1E26-EC50-4AED-BB0E-9C82E2955842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9" name="Oval 5"/>
          <p:cNvSpPr/>
          <p:nvPr/>
        </p:nvSpPr>
        <p:spPr>
          <a:xfrm>
            <a:off x="3203640" y="1268280"/>
            <a:ext cx="25923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典型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0" name="Rectangle 11"/>
          <p:cNvSpPr/>
          <p:nvPr/>
        </p:nvSpPr>
        <p:spPr>
          <a:xfrm>
            <a:off x="425520" y="29019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感染中毒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急性脑功能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1" name="Rectangle 11"/>
          <p:cNvSpPr/>
          <p:nvPr/>
        </p:nvSpPr>
        <p:spPr>
          <a:xfrm>
            <a:off x="607536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2" name="Rectangle 11"/>
          <p:cNvSpPr/>
          <p:nvPr/>
        </p:nvSpPr>
        <p:spPr>
          <a:xfrm>
            <a:off x="326700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3" name="Rectangle 11"/>
          <p:cNvSpPr/>
          <p:nvPr/>
        </p:nvSpPr>
        <p:spPr>
          <a:xfrm>
            <a:off x="71280" y="4197240"/>
            <a:ext cx="320544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发热、烦躁不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进行性加重的意识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4" name="Rectangle 11"/>
          <p:cNvSpPr/>
          <p:nvPr/>
        </p:nvSpPr>
        <p:spPr>
          <a:xfrm>
            <a:off x="3348000" y="4197240"/>
            <a:ext cx="269712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痛、呕吐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婴儿则有前囟饱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与张力增高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围增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5" name="Rectangle 11"/>
          <p:cNvSpPr/>
          <p:nvPr/>
        </p:nvSpPr>
        <p:spPr>
          <a:xfrm>
            <a:off x="6146640" y="4197240"/>
            <a:ext cx="288936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颈项强直最常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其他如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Kernig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Brudzinski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6" name="Line 3"/>
          <p:cNvSpPr/>
          <p:nvPr/>
        </p:nvSpPr>
        <p:spPr>
          <a:xfrm flipH="1">
            <a:off x="2401560" y="2252520"/>
            <a:ext cx="53028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7" name="Line 3"/>
          <p:cNvSpPr/>
          <p:nvPr/>
        </p:nvSpPr>
        <p:spPr>
          <a:xfrm>
            <a:off x="4562640" y="246852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8" name="Line 3"/>
          <p:cNvSpPr/>
          <p:nvPr/>
        </p:nvSpPr>
        <p:spPr>
          <a:xfrm>
            <a:off x="6291360" y="2252520"/>
            <a:ext cx="43164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9" name="Line 3"/>
          <p:cNvSpPr/>
          <p:nvPr/>
        </p:nvSpPr>
        <p:spPr>
          <a:xfrm>
            <a:off x="1763640" y="378936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0" name="Line 3"/>
          <p:cNvSpPr/>
          <p:nvPr/>
        </p:nvSpPr>
        <p:spPr>
          <a:xfrm>
            <a:off x="4562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1" name="Line 3"/>
          <p:cNvSpPr/>
          <p:nvPr/>
        </p:nvSpPr>
        <p:spPr>
          <a:xfrm>
            <a:off x="7370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/>
          </p:nvPr>
        </p:nvSpPr>
        <p:spPr>
          <a:xfrm>
            <a:off x="2700000" y="1557000"/>
            <a:ext cx="45356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化脓性脑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脑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癫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吉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巴雷综合征                注意力缺陷多动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812" name="Group 4"/>
          <p:cNvGrpSpPr/>
          <p:nvPr/>
        </p:nvGrpSpPr>
        <p:grpSpPr>
          <a:xfrm>
            <a:off x="1819440" y="2579760"/>
            <a:ext cx="688320" cy="593640"/>
            <a:chOff x="1819440" y="2579760"/>
            <a:chExt cx="688320" cy="593640"/>
          </a:xfrm>
        </p:grpSpPr>
        <p:sp>
          <p:nvSpPr>
            <p:cNvPr id="3813" name="AutoShape 5"/>
            <p:cNvSpPr/>
            <p:nvPr/>
          </p:nvSpPr>
          <p:spPr>
            <a:xfrm>
              <a:off x="1824840" y="258984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4" name="AutoShape 6"/>
            <p:cNvSpPr/>
            <p:nvPr/>
          </p:nvSpPr>
          <p:spPr>
            <a:xfrm>
              <a:off x="1819440" y="257976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5" name="AutoShape 7"/>
            <p:cNvSpPr/>
            <p:nvPr/>
          </p:nvSpPr>
          <p:spPr>
            <a:xfrm>
              <a:off x="1859400" y="26146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16" name="Text Box 8"/>
          <p:cNvSpPr/>
          <p:nvPr/>
        </p:nvSpPr>
        <p:spPr>
          <a:xfrm>
            <a:off x="1980720" y="2637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7" name="AutoShape 9"/>
          <p:cNvSpPr/>
          <p:nvPr/>
        </p:nvSpPr>
        <p:spPr>
          <a:xfrm>
            <a:off x="1819440" y="334152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8" name="Text Box 10"/>
          <p:cNvSpPr/>
          <p:nvPr/>
        </p:nvSpPr>
        <p:spPr>
          <a:xfrm>
            <a:off x="1954080" y="3424320"/>
            <a:ext cx="354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19" name="Group 11"/>
          <p:cNvGrpSpPr/>
          <p:nvPr/>
        </p:nvGrpSpPr>
        <p:grpSpPr>
          <a:xfrm>
            <a:off x="1803240" y="4110120"/>
            <a:ext cx="687240" cy="593640"/>
            <a:chOff x="1803240" y="4110120"/>
            <a:chExt cx="687240" cy="593640"/>
          </a:xfrm>
        </p:grpSpPr>
        <p:sp>
          <p:nvSpPr>
            <p:cNvPr id="3820" name="AutoShape 12"/>
            <p:cNvSpPr/>
            <p:nvPr/>
          </p:nvSpPr>
          <p:spPr>
            <a:xfrm>
              <a:off x="1808640" y="412020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1" name="AutoShape 13"/>
            <p:cNvSpPr/>
            <p:nvPr/>
          </p:nvSpPr>
          <p:spPr>
            <a:xfrm>
              <a:off x="1803240" y="41101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2" name="AutoShape 14"/>
            <p:cNvSpPr/>
            <p:nvPr/>
          </p:nvSpPr>
          <p:spPr>
            <a:xfrm>
              <a:off x="1843200" y="414504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23" name="Text Box 15"/>
          <p:cNvSpPr/>
          <p:nvPr/>
        </p:nvSpPr>
        <p:spPr>
          <a:xfrm>
            <a:off x="1971720" y="418608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4" name="AutoShape 16"/>
          <p:cNvSpPr/>
          <p:nvPr/>
        </p:nvSpPr>
        <p:spPr>
          <a:xfrm>
            <a:off x="1803240" y="487188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5" name="Text Box 17"/>
          <p:cNvSpPr/>
          <p:nvPr/>
        </p:nvSpPr>
        <p:spPr>
          <a:xfrm>
            <a:off x="1963440" y="492912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6" name="Line 18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7" name="Line 19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9" name="Line 21"/>
          <p:cNvSpPr/>
          <p:nvPr/>
        </p:nvSpPr>
        <p:spPr>
          <a:xfrm>
            <a:off x="2484360" y="5445000"/>
            <a:ext cx="4824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0" name="Line 21"/>
          <p:cNvSpPr/>
          <p:nvPr/>
        </p:nvSpPr>
        <p:spPr>
          <a:xfrm>
            <a:off x="2484360" y="6093000"/>
            <a:ext cx="48722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1" name="Group 4"/>
          <p:cNvGrpSpPr/>
          <p:nvPr/>
        </p:nvGrpSpPr>
        <p:grpSpPr>
          <a:xfrm>
            <a:off x="1835280" y="5589720"/>
            <a:ext cx="688320" cy="593640"/>
            <a:chOff x="1835280" y="5589720"/>
            <a:chExt cx="688320" cy="593640"/>
          </a:xfrm>
        </p:grpSpPr>
        <p:sp>
          <p:nvSpPr>
            <p:cNvPr id="3832" name="AutoShape 5"/>
            <p:cNvSpPr/>
            <p:nvPr/>
          </p:nvSpPr>
          <p:spPr>
            <a:xfrm>
              <a:off x="1840680" y="55998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3" name="AutoShape 6"/>
            <p:cNvSpPr/>
            <p:nvPr/>
          </p:nvSpPr>
          <p:spPr>
            <a:xfrm>
              <a:off x="1835280" y="55897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4" name="AutoShape 7"/>
            <p:cNvSpPr/>
            <p:nvPr/>
          </p:nvSpPr>
          <p:spPr>
            <a:xfrm>
              <a:off x="1875240" y="562464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35" name="Text Box 8"/>
          <p:cNvSpPr/>
          <p:nvPr/>
        </p:nvSpPr>
        <p:spPr>
          <a:xfrm>
            <a:off x="2014920" y="5661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6" name="Group 11"/>
          <p:cNvGrpSpPr/>
          <p:nvPr/>
        </p:nvGrpSpPr>
        <p:grpSpPr>
          <a:xfrm>
            <a:off x="1763640" y="1773360"/>
            <a:ext cx="687240" cy="593640"/>
            <a:chOff x="1763640" y="1773360"/>
            <a:chExt cx="687240" cy="593640"/>
          </a:xfrm>
        </p:grpSpPr>
        <p:sp>
          <p:nvSpPr>
            <p:cNvPr id="3837" name="AutoShape 12"/>
            <p:cNvSpPr/>
            <p:nvPr/>
          </p:nvSpPr>
          <p:spPr>
            <a:xfrm>
              <a:off x="1769040" y="1783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8" name="AutoShape 13"/>
            <p:cNvSpPr/>
            <p:nvPr/>
          </p:nvSpPr>
          <p:spPr>
            <a:xfrm>
              <a:off x="1763640" y="1773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9" name="AutoShape 14"/>
            <p:cNvSpPr/>
            <p:nvPr/>
          </p:nvSpPr>
          <p:spPr>
            <a:xfrm>
              <a:off x="1803600" y="1808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0" name="Text Box 15"/>
          <p:cNvSpPr/>
          <p:nvPr/>
        </p:nvSpPr>
        <p:spPr>
          <a:xfrm>
            <a:off x="1932120" y="184932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1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典型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24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F241-C861-46E3-A818-58DACA5AA6F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5" name="Oval 5"/>
          <p:cNvSpPr/>
          <p:nvPr/>
        </p:nvSpPr>
        <p:spPr>
          <a:xfrm>
            <a:off x="250920" y="3284640"/>
            <a:ext cx="22701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非典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6" name="Rectangle 11"/>
          <p:cNvSpPr/>
          <p:nvPr/>
        </p:nvSpPr>
        <p:spPr>
          <a:xfrm>
            <a:off x="4211640" y="1700280"/>
            <a:ext cx="460836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体温可高可低或不发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甚至体温不升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7" name="Rectangle 11"/>
          <p:cNvSpPr/>
          <p:nvPr/>
        </p:nvSpPr>
        <p:spPr>
          <a:xfrm>
            <a:off x="4211640" y="4344480"/>
            <a:ext cx="460044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惊厥可不典型，如仅见面部、肢体局灶或多灶性抽动、局部或全身性肌阵挛，或呈眨眼、呼吸不规则、屏气等各种不显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8" name="Rectangle 11"/>
          <p:cNvSpPr/>
          <p:nvPr/>
        </p:nvSpPr>
        <p:spPr>
          <a:xfrm>
            <a:off x="4211640" y="2565360"/>
            <a:ext cx="4608360" cy="11509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表现不明显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幼婴不会诉头痛，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仅有吐奶、尖叫或颅缝分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9" name="Line 3"/>
          <p:cNvSpPr/>
          <p:nvPr/>
        </p:nvSpPr>
        <p:spPr>
          <a:xfrm flipV="1">
            <a:off x="2411280" y="2133360"/>
            <a:ext cx="149544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0" name="Rectangle 11"/>
          <p:cNvSpPr/>
          <p:nvPr/>
        </p:nvSpPr>
        <p:spPr>
          <a:xfrm>
            <a:off x="4211640" y="5448240"/>
            <a:ext cx="46083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不明显，与婴儿肌肉不发达，肌力弱和反应低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1" name="Line 3"/>
          <p:cNvSpPr/>
          <p:nvPr/>
        </p:nvSpPr>
        <p:spPr>
          <a:xfrm>
            <a:off x="2700360" y="4076640"/>
            <a:ext cx="1295280" cy="216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2" name="Line 3"/>
          <p:cNvSpPr/>
          <p:nvPr/>
        </p:nvSpPr>
        <p:spPr>
          <a:xfrm flipV="1">
            <a:off x="2700360" y="3141720"/>
            <a:ext cx="129528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3" name="Line 3"/>
          <p:cNvSpPr/>
          <p:nvPr/>
        </p:nvSpPr>
        <p:spPr>
          <a:xfrm>
            <a:off x="2268360" y="4724280"/>
            <a:ext cx="1727280" cy="1008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6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98E0-3D7B-4C98-A786-04B632E119AE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7" name="Oval 5"/>
          <p:cNvSpPr/>
          <p:nvPr/>
        </p:nvSpPr>
        <p:spPr>
          <a:xfrm>
            <a:off x="2843280" y="2205000"/>
            <a:ext cx="2270160" cy="107964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8" name="Rectangle 11"/>
          <p:cNvSpPr/>
          <p:nvPr/>
        </p:nvSpPr>
        <p:spPr>
          <a:xfrm>
            <a:off x="250920" y="4292640"/>
            <a:ext cx="1944720" cy="450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硬膜下积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9" name="Rectangle 11"/>
          <p:cNvSpPr/>
          <p:nvPr/>
        </p:nvSpPr>
        <p:spPr>
          <a:xfrm>
            <a:off x="4284720" y="4293720"/>
            <a:ext cx="172728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积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0" name="Rectangle 11"/>
          <p:cNvSpPr/>
          <p:nvPr/>
        </p:nvSpPr>
        <p:spPr>
          <a:xfrm>
            <a:off x="2411280" y="4292640"/>
            <a:ext cx="1729080" cy="43164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室管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1" name="Rectangle 11"/>
          <p:cNvSpPr/>
          <p:nvPr/>
        </p:nvSpPr>
        <p:spPr>
          <a:xfrm>
            <a:off x="6429240" y="4074120"/>
            <a:ext cx="25005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抗利尿激素不适当分泌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2" name="Line 3"/>
          <p:cNvSpPr/>
          <p:nvPr/>
        </p:nvSpPr>
        <p:spPr>
          <a:xfrm>
            <a:off x="5364000" y="2997360"/>
            <a:ext cx="1729080" cy="1008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3" name="Line 3"/>
          <p:cNvSpPr/>
          <p:nvPr/>
        </p:nvSpPr>
        <p:spPr>
          <a:xfrm flipH="1">
            <a:off x="3276720" y="3284640"/>
            <a:ext cx="2872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4" name="Line 3"/>
          <p:cNvSpPr/>
          <p:nvPr/>
        </p:nvSpPr>
        <p:spPr>
          <a:xfrm>
            <a:off x="4643280" y="3284640"/>
            <a:ext cx="2890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5" name="Line 3"/>
          <p:cNvSpPr/>
          <p:nvPr/>
        </p:nvSpPr>
        <p:spPr>
          <a:xfrm flipH="1">
            <a:off x="1186920" y="3141720"/>
            <a:ext cx="158436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2C1D-CC1E-4D8A-97F0-531DF6FB4D99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他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皮肤瘀点、瘀斑涂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周血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清降钙素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神经影像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49" name="Picture 4" descr="图片19"/>
          <p:cNvPicPr/>
          <p:nvPr/>
        </p:nvPicPr>
        <p:blipFill>
          <a:blip r:embed="rId1"/>
          <a:stretch/>
        </p:blipFill>
        <p:spPr>
          <a:xfrm>
            <a:off x="565164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C659-4837-4887-921F-3377C7FF229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上腺素皮质激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及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治疗：①硬脑膜下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室管膜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C147-70CF-42AC-9707-53FC01ED471E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小儿患病前有无呼吸道、消化道或皮肤的感染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测量患儿生命体征，评估患儿有无发病各项症状，并判断症状的程度和性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对患儿健康的需求；是否有焦虑和恐惧的心理状况。评估家庭对疾病治疗和护理的经济承受能力和社会的支持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387E-6DEF-40C5-B653-70B42E2C313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/>
          </p:nvPr>
        </p:nvSpPr>
        <p:spPr>
          <a:xfrm>
            <a:off x="171360" y="1628640"/>
            <a:ext cx="889344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细菌感染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惊厥发作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          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摄入不足、机体消耗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疾病预后不良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A0A6-0892-4FA2-A192-D73434C97924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6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96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96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6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7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7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5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76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3977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3978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9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0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1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2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3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8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8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8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1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2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993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994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5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6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97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8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9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00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01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02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3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4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5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6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7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08" name="AutoShape 53"/>
          <p:cNvSpPr/>
          <p:nvPr/>
        </p:nvSpPr>
        <p:spPr>
          <a:xfrm>
            <a:off x="3465360" y="16765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9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病室安静清洁、空气新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遵医嘱及时给予退热和抗生素等药物治疗，并了解各种药物的使用配伍要求、适应证、禁忌证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2" name="矩形 55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376F-106E-44A4-8209-EB25FD127B6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1" name="AutoShape 53"/>
          <p:cNvSpPr/>
          <p:nvPr/>
        </p:nvSpPr>
        <p:spPr>
          <a:xfrm>
            <a:off x="3622680" y="24955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2" name="圆角矩形 54"/>
          <p:cNvSpPr/>
          <p:nvPr/>
        </p:nvSpPr>
        <p:spPr>
          <a:xfrm>
            <a:off x="4716360" y="1849320"/>
            <a:ext cx="3143520" cy="1284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命体征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并发症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3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3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3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9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0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1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42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43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4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5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6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7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8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5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5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5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5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6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57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8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9" name="矩形 81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60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06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06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6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6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3E1D-5DE9-431F-961D-E96EDE34656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9" name="AutoShape 53"/>
          <p:cNvSpPr/>
          <p:nvPr/>
        </p:nvSpPr>
        <p:spPr>
          <a:xfrm>
            <a:off x="3933720" y="32590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0" name="圆角矩形 55"/>
          <p:cNvSpPr/>
          <p:nvPr/>
        </p:nvSpPr>
        <p:spPr>
          <a:xfrm>
            <a:off x="4788000" y="2006640"/>
            <a:ext cx="4127400" cy="2735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环境和患儿安静，护理操作动作尽量轻柔、集中进行，修剪患儿指甲，专人守护和陪伴患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协助患儿洗漱、大小便及个人卫生等生活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7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7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7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7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8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8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8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6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8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8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8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9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3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4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95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96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97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8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9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0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1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2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0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0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0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9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0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2" name="矩形 138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1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1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1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9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2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7548-7B3D-4A93-906C-CE67891B1D25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3" name="AutoShape 53"/>
          <p:cNvSpPr/>
          <p:nvPr/>
        </p:nvSpPr>
        <p:spPr>
          <a:xfrm>
            <a:off x="3940200" y="4199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4" name="圆角矩形 54"/>
          <p:cNvSpPr/>
          <p:nvPr/>
        </p:nvSpPr>
        <p:spPr>
          <a:xfrm>
            <a:off x="4876920" y="3100320"/>
            <a:ext cx="4005000" cy="2225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高热量、高蛋白、高维生素、易消化的清淡流质或半流质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2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2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2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3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3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3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4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4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4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9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150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151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2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3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54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5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6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3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4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65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6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6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6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6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7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3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74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-1440" y="1844280"/>
            <a:ext cx="914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说出小儿化脓性脑膜炎、病毒性脑膜炎及癫痫持续状态的定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描述小儿化脓性脑膜炎和吉兰</a:t>
            </a:r>
            <a:r>
              <a:rPr b="0" lang="en-US" sz="2000" spc="-1" strike="noStrike">
                <a:solidFill>
                  <a:srgbClr val="03517d"/>
                </a:solidFill>
                <a:latin typeface="黑体"/>
                <a:ea typeface="黑体"/>
              </a:rPr>
              <a:t>-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巴雷综合征脑脊液的特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化脓性脑膜炎及病毒性脑膜炎的临床特点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小儿癫痫的分型、注意力缺陷多动症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正确选择神经系统检查方法评估神经系统各种神经疾病存在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根据小儿不同年龄、疾病特征及护理问题实施相应的护理措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4BC0-C8DD-4226-8CDA-FAAFCFCC167A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7" name="AutoShape 53"/>
          <p:cNvSpPr/>
          <p:nvPr/>
        </p:nvSpPr>
        <p:spPr>
          <a:xfrm flipV="1">
            <a:off x="3100320" y="5068080"/>
            <a:ext cx="1000080" cy="88920"/>
          </a:xfrm>
          <a:prstGeom prst="rightArrow">
            <a:avLst>
              <a:gd name="adj1" fmla="val 50000"/>
              <a:gd name="adj2" fmla="val 2233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8" name="圆角矩形 54"/>
          <p:cNvSpPr/>
          <p:nvPr/>
        </p:nvSpPr>
        <p:spPr>
          <a:xfrm>
            <a:off x="4302000" y="4338720"/>
            <a:ext cx="464364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患儿不同年龄，采用不同方式实施心理安慰、关心和爱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家长安慰，消除顾虑。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6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4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9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9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9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1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2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03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04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05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6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7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8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9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0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7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8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9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0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2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2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2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2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7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28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D6E8-A928-4ECF-80A3-17EBF784B2C4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1" name="AutoShape 53"/>
          <p:cNvSpPr/>
          <p:nvPr/>
        </p:nvSpPr>
        <p:spPr>
          <a:xfrm>
            <a:off x="314316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2" name="圆角矩形 54"/>
          <p:cNvSpPr/>
          <p:nvPr/>
        </p:nvSpPr>
        <p:spPr>
          <a:xfrm>
            <a:off x="4000680" y="3611520"/>
            <a:ext cx="5000400" cy="2889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积极防治上呼吸道、消化道等感染性疾病，预防皮肤外伤和脐部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与家属一起根据患儿具体情况制订系统且行之有效的功能训练计划，指导家长具体的护理措施，促进机体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0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8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5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6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57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58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59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0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1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62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3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4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1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2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73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4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7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7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7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1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2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4" name="圆角矩形 3"/>
          <p:cNvSpPr/>
          <p:nvPr/>
        </p:nvSpPr>
        <p:spPr>
          <a:xfrm>
            <a:off x="11160" y="1069920"/>
            <a:ext cx="9132840" cy="546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女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月，因发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，呕吐伴抽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前开始发热，体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8.5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持续不降，伴有流涕、咳嗽，烦躁不安。呕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，为胃内容物，量多，呈喷射状。入院当天突然出现抽搐，表现为意识丧失、双眼上翻、四肢强直，持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钟。患病以来精神萎靡，大小便正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体格检查：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 39.45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 4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P 15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W 9.0k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精神萎靡，嗜睡。皮肤黏膜未见瘀点、瘀斑。前囟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×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隆起。双侧瞳孔等大等圆，对光反射迟钝。咽部红。颈抵抗，双肺呼吸音粗，心音有力律齐，未闻及病理性杂音。腹软，肝肋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5cm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剑突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质中，脾未扪及。脊柱四肢发育正常。四肢肌张力增高，腱反射活跃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Kerni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rudzinski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巴氏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辅助检查：脑脊液检查结果：压力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430mmH2O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外观浑浊；白细胞数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2000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8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1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；蛋白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900mg0.9g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糖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264mmmol/L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氯化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010 mmmol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血常规检查结果：白细胞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7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28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尿常规、便常规。肝功均正常。胸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线片未见异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问题：</a:t>
            </a: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．患儿最可能的临床诊断是什么？说出诊断依据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5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287" name=""/>
          <p:cNvSpPr txBox="1"/>
          <p:nvPr/>
        </p:nvSpPr>
        <p:spPr>
          <a:xfrm>
            <a:off x="2572920" y="2708280"/>
            <a:ext cx="46069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节 病毒性脑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295C-0B0C-4F6B-9845-916F9EF390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encephalit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病毒感染引起的颅内急性炎症。若病变主要累及脑实质则称为病毒性脑炎，若病变主要累及脑膜则称为病毒性脑膜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meningiti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大多数患儿病程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种病毒感染均可引起脑炎、脑膜炎，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肠道病毒（柯萨奇病毒、埃可病毒）感染，其次为单纯疱疹病毒、腮腺炎病毒和虫媒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C83B-9BA3-4A8A-BAE4-C0396668615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 type="title"/>
          </p:nvPr>
        </p:nvSpPr>
        <p:spPr>
          <a:xfrm>
            <a:off x="4246560" y="299520"/>
            <a:ext cx="48261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5" name="矩形 1"/>
          <p:cNvSpPr/>
          <p:nvPr/>
        </p:nvSpPr>
        <p:spPr>
          <a:xfrm>
            <a:off x="4246560" y="337644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6" name="矩形 27"/>
          <p:cNvSpPr/>
          <p:nvPr/>
        </p:nvSpPr>
        <p:spPr>
          <a:xfrm>
            <a:off x="4992840" y="2467080"/>
            <a:ext cx="18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释放入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7" name="矩形 28"/>
          <p:cNvSpPr/>
          <p:nvPr/>
        </p:nvSpPr>
        <p:spPr>
          <a:xfrm>
            <a:off x="4246560" y="1579680"/>
            <a:ext cx="3346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局部的初期复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8" name="矩形 29"/>
          <p:cNvSpPr/>
          <p:nvPr/>
        </p:nvSpPr>
        <p:spPr>
          <a:xfrm>
            <a:off x="2046240" y="1928880"/>
            <a:ext cx="201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胃肠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9" name="矩形 30"/>
          <p:cNvSpPr/>
          <p:nvPr/>
        </p:nvSpPr>
        <p:spPr>
          <a:xfrm>
            <a:off x="343080" y="1558800"/>
            <a:ext cx="1626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0" name="矩形 31"/>
          <p:cNvSpPr/>
          <p:nvPr/>
        </p:nvSpPr>
        <p:spPr>
          <a:xfrm>
            <a:off x="1900080" y="1236600"/>
            <a:ext cx="1509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呼吸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1" name="矩形 32"/>
          <p:cNvSpPr/>
          <p:nvPr/>
        </p:nvSpPr>
        <p:spPr>
          <a:xfrm>
            <a:off x="6378480" y="3425760"/>
            <a:ext cx="2997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发热等全身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2" name="矩形 33"/>
          <p:cNvSpPr/>
          <p:nvPr/>
        </p:nvSpPr>
        <p:spPr>
          <a:xfrm>
            <a:off x="4246560" y="5538960"/>
            <a:ext cx="3094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3" name="矩形 34"/>
          <p:cNvSpPr/>
          <p:nvPr/>
        </p:nvSpPr>
        <p:spPr>
          <a:xfrm>
            <a:off x="5118120" y="434808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血脑屏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304" name="直接箭头连接符 3"/>
          <p:cNvCxnSpPr/>
          <p:nvPr/>
        </p:nvCxnSpPr>
        <p:spPr>
          <a:xfrm>
            <a:off x="1318680" y="1949040"/>
            <a:ext cx="2791440" cy="108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5" name="直接箭头连接符 5"/>
          <p:cNvCxnSpPr/>
          <p:nvPr/>
        </p:nvCxnSpPr>
        <p:spPr>
          <a:xfrm>
            <a:off x="4992480" y="2184480"/>
            <a:ext cx="1080" cy="124200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6" name="直接箭头连接符 7"/>
          <p:cNvCxnSpPr/>
          <p:nvPr/>
        </p:nvCxnSpPr>
        <p:spPr>
          <a:xfrm>
            <a:off x="4992480" y="4114800"/>
            <a:ext cx="1080" cy="151992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sp>
        <p:nvSpPr>
          <p:cNvPr id="4307" name="直接连接符 9"/>
          <p:cNvSpPr/>
          <p:nvPr/>
        </p:nvSpPr>
        <p:spPr>
          <a:xfrm>
            <a:off x="5792760" y="3795840"/>
            <a:ext cx="585720" cy="0"/>
          </a:xfrm>
          <a:prstGeom prst="line">
            <a:avLst/>
          </a:prstGeom>
          <a:ln w="9360">
            <a:solidFill>
              <a:srgbClr val="006b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9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膜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先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上呼吸道或消化道感染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史，表现为发热、恶心、呕吐。继而婴儿出现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烦躁不安，易被激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年长儿表现头痛、颈背疼痛，脑膜刺激征阳性。很少发生严重意识障碍和惊厥，无局限性神经系统体征。病程大多为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490680" y="162828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驱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全身感染症状，如发热、头痛、呕吐、腹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枢神经系统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惊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意识障碍  ③颅内压增高    ④运动功能障碍   ⑤神经情绪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程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，多数患儿可完全恢复，但少数遗留癫痫、肢体瘫痪、智力倒退等后遗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C047-F2FB-4662-BC99-44BE9957C575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428796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/MR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315" name="Picture 4" descr="图片19"/>
          <p:cNvPicPr/>
          <p:nvPr/>
        </p:nvPicPr>
        <p:blipFill>
          <a:blip r:embed="rId1"/>
          <a:stretch/>
        </p:blipFill>
        <p:spPr>
          <a:xfrm>
            <a:off x="550872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5" name=""/>
          <p:cNvSpPr txBox="1"/>
          <p:nvPr/>
        </p:nvSpPr>
        <p:spPr>
          <a:xfrm>
            <a:off x="323640" y="2565360"/>
            <a:ext cx="8591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神经系统解剖生理特点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4E17-C791-461D-A52B-5F06F0101A68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治疗与支持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降温、镇静止痉、控制脑水肿、降低颅内压，卧床休息，维持体温正常及水、电解质平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病毒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阿昔洛韦、干扰素、更昔洛韦、利巴韦林或静脉注射免疫球蛋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6978-4CA6-4B8F-BD51-C5B521C8BA9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228240" y="1832040"/>
            <a:ext cx="899172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有无呼吸道或胃肠道感染史，有无动物接触史或蚊虫叮咬史，预防接种史和流行病学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史：起病前有无上呼吸道感染、胃肠道感染史，是否进行预防接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身体状况：患儿生命体征，精神状态、神志；有无头痛、呕吐、惊厥；囟门是否紧张、隆起、有无脑膜刺激征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478D-C8EA-4246-A1EC-F5111E8BBD8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247680" y="1730520"/>
            <a:ext cx="8740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病毒血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惊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急性意识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脑实质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昏迷、瘫痪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于机体需要量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呕吐、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A319-4DA2-49FF-B63C-DB7D3D51BA0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7" name="AutoShape 53"/>
          <p:cNvSpPr/>
          <p:nvPr/>
        </p:nvSpPr>
        <p:spPr>
          <a:xfrm>
            <a:off x="3454560" y="15667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8" name="圆角矩形 54"/>
          <p:cNvSpPr/>
          <p:nvPr/>
        </p:nvSpPr>
        <p:spPr>
          <a:xfrm>
            <a:off x="4214880" y="1357200"/>
            <a:ext cx="4929120" cy="78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2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3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3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3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33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33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4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4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34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34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5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35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35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6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36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36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6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37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37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7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7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38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38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4D79-A3B8-4DC4-8B46-03F65F678EC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9" name="AutoShape 53"/>
          <p:cNvSpPr/>
          <p:nvPr/>
        </p:nvSpPr>
        <p:spPr>
          <a:xfrm>
            <a:off x="3591000" y="219564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0" name="圆角矩形 54"/>
          <p:cNvSpPr/>
          <p:nvPr/>
        </p:nvSpPr>
        <p:spPr>
          <a:xfrm>
            <a:off x="4643280" y="1552680"/>
            <a:ext cx="3143520" cy="1284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惊厥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约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9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9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9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0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0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0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0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0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0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1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1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1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2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2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3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3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3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3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3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4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4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44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44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4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5DEA-78DF-4DD8-A8EC-2ECF6C1AB45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1" name="AutoShape 53"/>
          <p:cNvSpPr/>
          <p:nvPr/>
        </p:nvSpPr>
        <p:spPr>
          <a:xfrm>
            <a:off x="3946680" y="29383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2" name="圆角矩形 55"/>
          <p:cNvSpPr/>
          <p:nvPr/>
        </p:nvSpPr>
        <p:spPr>
          <a:xfrm>
            <a:off x="4788000" y="2052720"/>
            <a:ext cx="4127400" cy="180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去除影响患儿情绪的不良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保护性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53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454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455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6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7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58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9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0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1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62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63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4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5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6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7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8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9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70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71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2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3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4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5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6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77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78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79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0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1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82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3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4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85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86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87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8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9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90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1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2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93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4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95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96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97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8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9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0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1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2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03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04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05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6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7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8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9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0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37A4-479E-4A5C-A81C-D1B49555071C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3" name="AutoShape 53"/>
          <p:cNvSpPr/>
          <p:nvPr/>
        </p:nvSpPr>
        <p:spPr>
          <a:xfrm>
            <a:off x="4316400" y="3656160"/>
            <a:ext cx="530280" cy="63360"/>
          </a:xfrm>
          <a:prstGeom prst="rightArrow">
            <a:avLst>
              <a:gd name="adj1" fmla="val 50000"/>
              <a:gd name="adj2" fmla="val 2220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4" name="圆角矩形 54"/>
          <p:cNvSpPr/>
          <p:nvPr/>
        </p:nvSpPr>
        <p:spPr>
          <a:xfrm>
            <a:off x="5046840" y="3083040"/>
            <a:ext cx="4005000" cy="1253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呈功能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及早进行肢体功能锻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15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16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17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8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9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0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1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2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23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24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25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6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7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8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9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0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1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32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33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4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5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36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7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8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9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540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541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2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3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4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5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6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47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548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549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0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1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2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3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4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55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6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57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558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559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0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1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62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3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64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65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66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67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8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9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70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1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2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8A31-C230-4F6A-B421-8F23C17EC44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5" name="AutoShape 53"/>
          <p:cNvSpPr/>
          <p:nvPr/>
        </p:nvSpPr>
        <p:spPr>
          <a:xfrm flipV="1">
            <a:off x="3429000" y="4368240"/>
            <a:ext cx="727200" cy="44280"/>
          </a:xfrm>
          <a:prstGeom prst="rightArrow">
            <a:avLst>
              <a:gd name="adj1" fmla="val 50000"/>
              <a:gd name="adj2" fmla="val 2307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6" name="圆角矩形 54"/>
          <p:cNvSpPr/>
          <p:nvPr/>
        </p:nvSpPr>
        <p:spPr>
          <a:xfrm>
            <a:off x="4546440" y="3456000"/>
            <a:ext cx="436896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昏迷患儿侧卧位，定时翻身及按摩皮肤，防止出现压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77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78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79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0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1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2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3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4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5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86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87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8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9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0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1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2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93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94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95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6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7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8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9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0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1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02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03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4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5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6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7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8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9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10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11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2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3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14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5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6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17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8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19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20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21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2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3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4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5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6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27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28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29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0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1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2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3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4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D67C-365E-47F9-84E6-A0045571B07F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7" name="AutoShape 53"/>
          <p:cNvSpPr/>
          <p:nvPr/>
        </p:nvSpPr>
        <p:spPr>
          <a:xfrm>
            <a:off x="4295880" y="49989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8" name="圆角矩形 54"/>
          <p:cNvSpPr/>
          <p:nvPr/>
        </p:nvSpPr>
        <p:spPr>
          <a:xfrm>
            <a:off x="5351400" y="4479840"/>
            <a:ext cx="3564000" cy="11271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瞳孔及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意识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64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64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4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4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64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64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5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65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65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6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6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7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7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7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7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8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8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8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8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9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9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9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3A60-B0E9-4352-A6FE-60F9627CE0A9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9" name="AutoShape 53"/>
          <p:cNvSpPr/>
          <p:nvPr/>
        </p:nvSpPr>
        <p:spPr>
          <a:xfrm>
            <a:off x="3103560" y="57913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0" name="圆角矩形 54"/>
          <p:cNvSpPr/>
          <p:nvPr/>
        </p:nvSpPr>
        <p:spPr>
          <a:xfrm>
            <a:off x="4316400" y="4511520"/>
            <a:ext cx="4599000" cy="1892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向患儿和家长介绍病情、用药指导及护理方法，指导并鼓励家长坚持智力训练和瘫痪肢体的功能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70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70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0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71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71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1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71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71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2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2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72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72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3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73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73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4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4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74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74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5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75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75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5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7" name=""/>
          <p:cNvSpPr txBox="1"/>
          <p:nvPr/>
        </p:nvSpPr>
        <p:spPr>
          <a:xfrm>
            <a:off x="395280" y="1681200"/>
            <a:ext cx="835200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85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57160" indent="-85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8" name="内容占位符 2"/>
          <p:cNvSpPr/>
          <p:nvPr/>
        </p:nvSpPr>
        <p:spPr>
          <a:xfrm>
            <a:off x="617400" y="2349360"/>
            <a:ext cx="790920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系统发育是小儿神经心理行为发展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有器官中神经系统发育居领先地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脑的生长是形态发育与结构功能逐渐成熟的过程，主要是神经细胞体积的增大和与之相连的突触数量的增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0" name="圆角矩形 3"/>
          <p:cNvSpPr/>
          <p:nvPr/>
        </p:nvSpPr>
        <p:spPr>
          <a:xfrm>
            <a:off x="11160" y="1306440"/>
            <a:ext cx="9132840" cy="5118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男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因“发热、神昏抽搐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时”由某医院急诊科收入院，患儿入院时高热，处于中度昏迷状态，频繁抽搐伴意识丧失，喉中痰鸣，大便秘结。查体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39℃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14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3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P105/56mmHg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瞳孔直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m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两侧对称，对光反应迟钝，各生理反射减弱，双侧巴氏征阳性，脑膜刺激征阳性，双眼视盘轻度水肿。脑脊液检查：压力升高，外观清亮，白细胞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以淋巴细胞为主，糖和氯化物正常，蛋白质轻度增高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前曾患有上呼吸道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问题：该患儿的主要护理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1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63" name=""/>
          <p:cNvSpPr txBox="1"/>
          <p:nvPr/>
        </p:nvSpPr>
        <p:spPr>
          <a:xfrm>
            <a:off x="2868120" y="2997000"/>
            <a:ext cx="40165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四节　癫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3D1C-EFB0-4F73-BF69-690BED3BA7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癫 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387360" y="1557000"/>
            <a:ext cx="847728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eizure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于脑部神经元发作性异常放电引起脑功能障碍的一组临床症状，表现为意识障碍、抽搐、精神行为异常等，多数癫痫发作持续时间短暂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pileps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原因引起的脑部慢性疾患，是脑内神经元反复发作性异常放电导致突发性、暂时性脑功能失常，临床出现意识、运动、感觉、精神或自主神经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8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内结构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1267-2317-44D3-B26F-147EE27A45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1" name="矩形 1"/>
          <p:cNvSpPr/>
          <p:nvPr/>
        </p:nvSpPr>
        <p:spPr>
          <a:xfrm>
            <a:off x="395280" y="2871720"/>
            <a:ext cx="84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发生机制十分复杂，迄今尚未完全阐明。许多研究结果表明它的电生理本质是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神经元过度同步放电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结果，与神经生化、神经生理、神经生物学、免疫学等均密切相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3" name="PlaceHolder 2"/>
          <p:cNvSpPr>
            <a:spLocks noGrp="1"/>
          </p:cNvSpPr>
          <p:nvPr>
            <p:ph/>
          </p:nvPr>
        </p:nvSpPr>
        <p:spPr>
          <a:xfrm>
            <a:off x="47304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局灶性发作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单纯局灶性发作：临床以局灶性运动性发作最常见，发作时间平均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秒，发作后无不适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复杂局灶性发作：发作时有意识、知觉损害。意识部分丧失，多起源于颞区或额颞区，伴有精神行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5970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全面部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强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神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肌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张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痉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520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良性癫痫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最常见的一种癫痫综合征。从口面部开始，很快发展至全身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，意识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婴儿痉挛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频繁的强直痉挛发作，表现为屈曲性、伸展性及混合性三种。以屈曲性及混合性发作多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Lennox-Gastaut</a:t>
            </a: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综合征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多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常见肌阵挛、强直、失张力及非典型失神等多种发作，也可有大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3026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持续状态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tatus epilepticu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一次发作持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或反复发作间歇期意识不能完全恢复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者，称为癫痫持续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常因突然停药、药物中毒、高热等诱发。临床多见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持续状态，颅内、外急性疾病均可引起，为儿科急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EB91-02E5-412E-B308-6BAEDD63BAF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确诊癫痫发作与癫痫最重要的检查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像学检查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I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颅脑影像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783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3850" name="内容占位符 2" descr=""/>
          <p:cNvPicPr/>
          <p:nvPr/>
        </p:nvPicPr>
        <p:blipFill>
          <a:blip r:embed="rId1"/>
          <a:stretch/>
        </p:blipFill>
        <p:spPr>
          <a:xfrm>
            <a:off x="838080" y="1332000"/>
            <a:ext cx="733428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612A-A8AA-428E-87A8-85F739024909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癫痫药物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药物治疗原则是早期用药，根据发作类型选药，以单一用药为主，从小剂量开始直至完全控制发作，长期规律服药，定期复查、监测药物血浓度，注意药物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针对经合理规范的抗癫痫药物治疗其疗效不佳者，属于难治性癫痫，其中部分患儿可以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D758-643B-4E3A-A8A9-637A92CB133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饥饿、过饱、饮酒、劳累等诱发因素，家庭居住的气候、环境条件，家族中有无类似病史的成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生命体征，了解患儿发作时的临床表现、发作时间及次数等，了解相关影像学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了解可能引发疾病的社会及环境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7544-43F6-42D0-A98D-BB66833FEB75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2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窒息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喉痉挛、呼吸道分泌物增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癫痫发作时抽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水肿、酸中毒、呼吸衰竭、循环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知识缺乏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儿家长缺乏癫痫发作的急救知识及正确服用抗癫痫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C5A2-25AD-4A6C-97A9-61DCB24B6CD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5" name="AutoShape 53"/>
          <p:cNvSpPr/>
          <p:nvPr/>
        </p:nvSpPr>
        <p:spPr>
          <a:xfrm>
            <a:off x="3571920" y="1914480"/>
            <a:ext cx="488880" cy="46080"/>
          </a:xfrm>
          <a:prstGeom prst="rightArrow">
            <a:avLst>
              <a:gd name="adj1" fmla="val 50000"/>
              <a:gd name="adj2" fmla="val 2205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6" name="圆角矩形 54"/>
          <p:cNvSpPr/>
          <p:nvPr/>
        </p:nvSpPr>
        <p:spPr>
          <a:xfrm>
            <a:off x="4214880" y="1563840"/>
            <a:ext cx="4929120" cy="780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97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798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799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0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1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02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3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4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05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06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07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8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9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0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1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2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13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814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15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6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7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8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9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0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21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22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23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4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5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6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7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8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9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0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1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32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33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4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5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36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7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38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F663-9184-4582-BCF2-7B1D60BB9EC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1" name="AutoShape 53"/>
          <p:cNvSpPr/>
          <p:nvPr/>
        </p:nvSpPr>
        <p:spPr>
          <a:xfrm>
            <a:off x="3368520" y="28098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2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操作时勿强行按压肢体，以免引起骨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护患儿肢体，防止皮肤破损、骨折或脱臼、坠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活动与休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43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44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45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6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7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48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9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0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1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52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53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4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5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56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7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8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9" name="Group 4"/>
          <p:cNvGrpSpPr/>
          <p:nvPr/>
        </p:nvGrpSpPr>
        <p:grpSpPr>
          <a:xfrm>
            <a:off x="196920" y="1565280"/>
            <a:ext cx="2997720" cy="748800"/>
            <a:chOff x="196920" y="1565280"/>
            <a:chExt cx="2997720" cy="748800"/>
          </a:xfrm>
        </p:grpSpPr>
        <p:grpSp>
          <p:nvGrpSpPr>
            <p:cNvPr id="4860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61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2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3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64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5" name="Text Box 10"/>
            <p:cNvSpPr/>
            <p:nvPr/>
          </p:nvSpPr>
          <p:spPr>
            <a:xfrm>
              <a:off x="155412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气道通畅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6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67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68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69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0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1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72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3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4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75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6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77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78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79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0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1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2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3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84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A1D7-D4D6-46D9-8BF4-053D7E3F341C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7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8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癫痫发作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循环衰竭的征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患儿经抗癫痫治疗后，癫痫发作、智力和运动发育等状况的转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9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90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91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2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3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94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5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6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97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98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99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0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1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02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3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4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05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06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07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8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9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0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1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2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13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14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15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6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7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8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9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0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21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2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23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24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25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6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7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28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9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30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C55B-FBFD-4AD5-AB81-DDA47E4AACEB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3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4" name="圆角矩形 54"/>
          <p:cNvSpPr/>
          <p:nvPr/>
        </p:nvSpPr>
        <p:spPr>
          <a:xfrm>
            <a:off x="4495680" y="3833640"/>
            <a:ext cx="4324320" cy="2654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围生期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家长合理安排患儿的生活与学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除患儿的精神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35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936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937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8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9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0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1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2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43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944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945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6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7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8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9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0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1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52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53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4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5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6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7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8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9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60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61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2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3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4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5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6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67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8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69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70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71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2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3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74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5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76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78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五节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C156-60B5-4DBD-B6F1-13B904E4C2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  <a:ea typeface="黑体"/>
            </a:endParaRPr>
          </a:p>
        </p:txBody>
      </p:sp>
      <p:sp>
        <p:nvSpPr>
          <p:cNvPr id="4981" name="PlaceHolder 2"/>
          <p:cNvSpPr>
            <a:spLocks noGrp="1"/>
          </p:cNvSpPr>
          <p:nvPr>
            <p:ph/>
          </p:nvPr>
        </p:nvSpPr>
        <p:spPr>
          <a:xfrm>
            <a:off x="390600" y="2276280"/>
            <a:ext cx="8477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感染性多发性神经根神经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uillain-Barre syndrome, GB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小儿最常见的急性周围神经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3" name="PlaceHolder 2"/>
          <p:cNvSpPr>
            <a:spLocks noGrp="1"/>
          </p:cNvSpPr>
          <p:nvPr>
            <p:ph/>
          </p:nvPr>
        </p:nvSpPr>
        <p:spPr>
          <a:xfrm>
            <a:off x="394920" y="242064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因尚未完全明确。多数学者认为本病是免疫介导的迟发型超敏反应，感染是启动免疫反应的首要因素。最主要的感染因子为空肠弯曲菌、巨细胞病毒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、带状疱疹病毒、肺炎支原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2" name="内容占位符 2"/>
          <p:cNvSpPr/>
          <p:nvPr/>
        </p:nvSpPr>
        <p:spPr>
          <a:xfrm>
            <a:off x="500040" y="1844640"/>
            <a:ext cx="8110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生时已具备功能，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构造已接近成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髓末端：新生儿期位于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下缘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上移至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078D-10E3-4292-AFBE-BA9DE0F8A0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5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6" name="矩形 1"/>
          <p:cNvSpPr/>
          <p:nvPr/>
        </p:nvSpPr>
        <p:spPr>
          <a:xfrm>
            <a:off x="668160" y="2349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感染、创伤、手术等刺激因素改变机体的免疫系统，导致淋巴细胞对髓鞘敏感，出现髓鞘损伤和神经脱髓鞘的现象，运动、感觉神经冲动传导速度减慢甚至停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运动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进行性肌无力是最突出的表现。多数患儿自肢体远端开始呈上行性麻痹进展，急性起病者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4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即可出现严重的肢体瘫痪以及呼吸机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脑神经麻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对称或不对称的脑神经麻痹，以面神经受损引起的面瘫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0" name="PlaceHolder 2"/>
          <p:cNvSpPr>
            <a:spLocks noGrp="1"/>
          </p:cNvSpPr>
          <p:nvPr>
            <p:ph/>
          </p:nvPr>
        </p:nvSpPr>
        <p:spPr>
          <a:xfrm>
            <a:off x="4906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感觉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早期即有肌肉疼痛，下肢远端出现不同程度的感觉异常和麻木感。年长儿可表现为手套或袜套状分布感觉减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自主神经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较轻微，可出现视物不清，多汗、面色潮红、腹痛、便秘，一过性尿潴留，血压轻度升高或心率失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65EE-1853-4F52-98CB-4967E29BA8D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蛋白细胞分离现象，是本病特征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肌电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系统检查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肌力评定、运动能力和深浅感觉等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994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C825-F479-42AB-B38E-F7CE0F27538B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7" name="PlaceHolder 2"/>
          <p:cNvSpPr>
            <a:spLocks noGrp="1"/>
          </p:cNvSpPr>
          <p:nvPr>
            <p:ph/>
          </p:nvPr>
        </p:nvSpPr>
        <p:spPr>
          <a:xfrm>
            <a:off x="311040" y="136044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药物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疾病初期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）大剂量应用人血免疫球蛋白可明显延缓本病进展速度，减轻极期症状的严重程度，降低气管切开及机械通气的概率。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4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脉注射，连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对症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神经根水肿，可给予甘露醇或短期应用肾上腺皮质激素；积极治疗呼吸肌麻痹，严重病例应及时给予机械通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1468-E176-4FEB-A583-630E5A7503E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9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0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病毒感染、创伤、手术等刺激因素，询问家庭居住的气候、环境条件，家族中有无类似病史的成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患儿肌力变化，注意呼吸及运动感觉功能，了解实验室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家长对该病的预后、疾病的护理方法、药物的副作用等知识的认识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80C1-B077-4A90-BFA1-C5A54D2DA1E7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感觉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效性呼吸型态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呼吸肌瘫痪、咳嗽反射消失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吞咽困难影响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皮肤完整性受损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长期卧床、感觉异常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D0A3-2A2B-4C8E-862E-2C4C57849F9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6" name="AutoShape 53"/>
          <p:cNvSpPr/>
          <p:nvPr/>
        </p:nvSpPr>
        <p:spPr>
          <a:xfrm>
            <a:off x="4124160" y="19890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7" name="圆角矩形 54"/>
          <p:cNvSpPr/>
          <p:nvPr/>
        </p:nvSpPr>
        <p:spPr>
          <a:xfrm>
            <a:off x="4670280" y="1400040"/>
            <a:ext cx="4245120" cy="18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于功能位置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帮助患儿做肢体被动运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恢复期鼓励、指导、督促患儿自主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08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09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10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1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2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13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4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5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16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17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18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9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0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1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2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3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24" name="Group 4"/>
          <p:cNvGrpSpPr/>
          <p:nvPr/>
        </p:nvGrpSpPr>
        <p:grpSpPr>
          <a:xfrm>
            <a:off x="196920" y="1581120"/>
            <a:ext cx="3392640" cy="748800"/>
            <a:chOff x="196920" y="1581120"/>
            <a:chExt cx="3392640" cy="748800"/>
          </a:xfrm>
        </p:grpSpPr>
        <p:grpSp>
          <p:nvGrpSpPr>
            <p:cNvPr id="5025" name="Group 5"/>
            <p:cNvGrpSpPr/>
            <p:nvPr/>
          </p:nvGrpSpPr>
          <p:grpSpPr>
            <a:xfrm>
              <a:off x="196920" y="1581120"/>
              <a:ext cx="792720" cy="748800"/>
              <a:chOff x="196920" y="1581120"/>
              <a:chExt cx="792720" cy="748800"/>
            </a:xfrm>
          </p:grpSpPr>
          <p:sp>
            <p:nvSpPr>
              <p:cNvPr id="5026" name="AutoShape 6"/>
              <p:cNvSpPr/>
              <p:nvPr/>
            </p:nvSpPr>
            <p:spPr>
              <a:xfrm>
                <a:off x="203400" y="15937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7" name="AutoShape 7"/>
              <p:cNvSpPr/>
              <p:nvPr/>
            </p:nvSpPr>
            <p:spPr>
              <a:xfrm>
                <a:off x="196920" y="158112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8" name="AutoShape 8"/>
              <p:cNvSpPr/>
              <p:nvPr/>
            </p:nvSpPr>
            <p:spPr>
              <a:xfrm>
                <a:off x="243000" y="162540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9" name="Line 9"/>
            <p:cNvSpPr/>
            <p:nvPr/>
          </p:nvSpPr>
          <p:spPr>
            <a:xfrm>
              <a:off x="796680" y="222984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0" name="Text Box 10"/>
            <p:cNvSpPr/>
            <p:nvPr/>
          </p:nvSpPr>
          <p:spPr>
            <a:xfrm>
              <a:off x="1702080" y="16437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1" name="Text Box 11"/>
            <p:cNvSpPr/>
            <p:nvPr/>
          </p:nvSpPr>
          <p:spPr>
            <a:xfrm>
              <a:off x="381960" y="1638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32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33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34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5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6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37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8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9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0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1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42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43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44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5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6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7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8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9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0A8A-F9BD-434C-9E7C-5565AE41A60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2" name="AutoShape 53"/>
          <p:cNvSpPr/>
          <p:nvPr/>
        </p:nvSpPr>
        <p:spPr>
          <a:xfrm>
            <a:off x="3624120" y="27972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3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室内空气新鲜，温、湿度适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呼吸道通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呼吸困难者给予低流量氧气吸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54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55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56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7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8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59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0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1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62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63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64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5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6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67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8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9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0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071" name="Group 5"/>
            <p:cNvGrpSpPr/>
            <p:nvPr/>
          </p:nvGrpSpPr>
          <p:grpSpPr>
            <a:xfrm>
              <a:off x="196920" y="1565280"/>
              <a:ext cx="792360" cy="748800"/>
              <a:chOff x="196920" y="1565280"/>
              <a:chExt cx="792360" cy="748800"/>
            </a:xfrm>
          </p:grpSpPr>
          <p:sp>
            <p:nvSpPr>
              <p:cNvPr id="5072" name="AutoShape 6"/>
              <p:cNvSpPr/>
              <p:nvPr/>
            </p:nvSpPr>
            <p:spPr>
              <a:xfrm>
                <a:off x="203400" y="157788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3" name="AutoShape 7"/>
              <p:cNvSpPr/>
              <p:nvPr/>
            </p:nvSpPr>
            <p:spPr>
              <a:xfrm>
                <a:off x="196920" y="15652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4" name="AutoShape 8"/>
              <p:cNvSpPr/>
              <p:nvPr/>
            </p:nvSpPr>
            <p:spPr>
              <a:xfrm>
                <a:off x="243000" y="1609560"/>
                <a:ext cx="689760" cy="647280"/>
              </a:xfrm>
              <a:prstGeom prst="hexagon">
                <a:avLst>
                  <a:gd name="adj" fmla="val 2668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75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6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7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8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79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80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1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2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83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4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5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86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7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88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89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90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1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2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93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94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95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A644-CFCF-4936-B0CE-13D52BFAD35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8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9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高蛋白、高能量、高维生素易消化饮食，少量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00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01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02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3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4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5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6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7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08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09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10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1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2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3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4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5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16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17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18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9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0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1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2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3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24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25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26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7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8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9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0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1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32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3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34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35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36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7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8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39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0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41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55" name="图片 5" descr="5.jpg"/>
          <p:cNvPicPr/>
          <p:nvPr/>
        </p:nvPicPr>
        <p:blipFill>
          <a:blip r:embed="rId1"/>
          <a:stretch/>
        </p:blipFill>
        <p:spPr>
          <a:xfrm>
            <a:off x="1227240" y="1488960"/>
            <a:ext cx="676584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52BE-7FAA-4DA9-8A5E-F977379E0D0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4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5" name="圆角矩形 54"/>
          <p:cNvSpPr/>
          <p:nvPr/>
        </p:nvSpPr>
        <p:spPr>
          <a:xfrm>
            <a:off x="4284720" y="4103640"/>
            <a:ext cx="4324320" cy="2338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预防压疮。教会家长帮助患儿进行训练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恢复期患儿坚持瘫痪肢体的主动锻炼，定期进行门诊复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46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47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48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9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0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1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2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3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4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55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56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7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8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9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0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1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62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63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64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5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6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67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8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9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70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71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72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3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4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5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6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7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78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9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0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81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82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3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4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5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6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87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189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六节　注意力缺陷多动症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3017-DDC7-42FA-8458-620E356C14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注意力缺陷多动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390600" y="1989000"/>
            <a:ext cx="8477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轻微脑功能障碍综合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inimal brain dysfunction syndrome, M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以与年龄不相称的多动、注意力不集中、任性、易冲动为主要特征的行为障碍，是一种常见的小儿行为异常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533160" y="2492280"/>
            <a:ext cx="83818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病由多种因素引起。有研究证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明显的遗传倾向；此外，与各种原因导致的脑损伤有关，如妊娠及分娩期脑轻微损伤、神经发育延迟或损害等；不良社会和家庭环境等也可能是致病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67DD-C7A3-4B84-93C9-F236CDF08E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6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7" name="矩形 1"/>
          <p:cNvSpPr/>
          <p:nvPr/>
        </p:nvSpPr>
        <p:spPr>
          <a:xfrm>
            <a:off x="668160" y="234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4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多肽性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有关，它主要分布在额叶，它的异常提示额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元功能低下引发注意障碍。分子生物学研究多巴胺代谢异常或敏感性增高，其他研究多集中在丘脑、网状激活系统和前中脑束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注意缺陷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的表现欲年龄明显不相称，注意集中困难和注意持续时间短暂，是本症的核心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活动过多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为患者经常显得不安宁，小动作多，不能安静坐着，在座位上扭来扭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行为冲动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冲动，在信息不充分的情况下快速地做出行为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42472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学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神经系统发育异常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的精细动作、协调运动、空间位置觉等发育较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品行障碍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行障碍表现为攻击性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C568-0878-4267-9045-FD84E455753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4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35164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graphicFrame>
        <p:nvGraphicFramePr>
          <p:cNvPr id="5205" name=""/>
          <p:cNvGraphicFramePr/>
          <p:nvPr/>
        </p:nvGraphicFramePr>
        <p:xfrm>
          <a:off x="287280" y="1628640"/>
          <a:ext cx="8567640" cy="4646880"/>
        </p:xfrm>
        <a:graphic>
          <a:graphicData uri="http://schemas.openxmlformats.org/drawingml/2006/table">
            <a:tbl>
              <a:tblPr/>
              <a:tblGrid>
                <a:gridCol w="4554720"/>
                <a:gridCol w="4012920"/>
              </a:tblGrid>
              <a:tr h="454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意力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多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易受外来影响而激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教室常常离开座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监督时难以有始有终地完成任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未加思考即开始行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持久性集中注意力（作业、游戏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集体活动中常不按次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听不进别人说什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在问题尚未说完时即抢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经常丢失生活和学习用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安静地玩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学校课堂注意力分散、成绩不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做出过分的行动如爬高、乱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能组织达到一定目的的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与危险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一事未完又做另一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坐立不安、动手动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干扰别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说话过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06" name="矩形 2"/>
          <p:cNvSpPr/>
          <p:nvPr/>
        </p:nvSpPr>
        <p:spPr>
          <a:xfrm>
            <a:off x="2925360" y="109224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H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诊断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C727-351C-49C9-885B-4E806BC7BFA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9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长、教师、医务人员密切配合，尽可能寻找并去除致病诱因，减轻患儿精神负担，减少不良刺激，发现优点及时表扬，增强其自信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用药护理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需要药物治疗的患儿应指导用药方法，并注意对药物的疗效及副作用进行监测。以精神兴奋剂最为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167C-12BF-4444-9676-DE45BA1435D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1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2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仔细询问产前、产时及产后是否存在导致轻度脑损害的因素，评估患儿生活及居住环境，了解患儿父母的行为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意障碍、多动、情绪冲动、学习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及家长的心理状态。家长及周围人群往往对患儿产生厌烦心理，加上周围人群的歧视，会导致患儿失去自信心，产生自悲心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7" name=""/>
          <p:cNvSpPr txBox="1"/>
          <p:nvPr/>
        </p:nvSpPr>
        <p:spPr>
          <a:xfrm>
            <a:off x="395280" y="1699920"/>
            <a:ext cx="8352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及正常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脑脊液成分与成人相同，为无色碱性液体，内含蛋白质、糖、淋巴细胞和盐类物质，其比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小儿脑脊液随着年龄的增长和脑室的发育逐渐增加，新生儿脑积液的量少、压力低，故抽取脑脊液较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0B0A-6B7C-42E8-A190-91DAAA04947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0597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思维紊乱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注意力不集中、活动过度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常有攻击破坏行为和学习成绩落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社会交往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任性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外伤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多动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FC95-730F-4CCA-B2A9-0C7C12A44374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8" name="矩形 1"/>
          <p:cNvSpPr/>
          <p:nvPr/>
        </p:nvSpPr>
        <p:spPr>
          <a:xfrm>
            <a:off x="264960" y="1219320"/>
            <a:ext cx="84614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常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其参与文体活动，以释放多余精力并训练其注意力，同时增强其自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患儿制定简单可行的生活制度，循序渐进地培养其注意力和控制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针对其特点合理安排课程和学习计划，改进学习方法，提高学习成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指导患儿及家长采用专业的行为矫正治疗，矫正患儿的多动和冲动，提高其学习能力和社会交往能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E4E0-1AF6-42C6-A0BC-DAC35F98FDD3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1" name="矩形 1"/>
          <p:cNvSpPr/>
          <p:nvPr/>
        </p:nvSpPr>
        <p:spPr>
          <a:xfrm>
            <a:off x="407880" y="1557360"/>
            <a:ext cx="848196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向患儿及家长介绍本病的相关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解释药物治疗同时加强教育及心理护理的重要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同情、关心爱护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有不良习惯和学习困难的患儿，不断增强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于患儿的一些攻击性和破坏性行为要严加制止，但应注意方式方法，保护患儿的自尊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庭、学校、社会应协调一致，以取得最佳的教育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6:56:19Z</dcterms:modified>
  <cp:revision>2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